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2.jpeg" ContentType="image/jpeg"/>
  <Override PartName="/ppt/media/image3.wmf" ContentType="image/x-wmf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A46D-1C4E-41AB-87F8-0A1F8ACF5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5432-919E-4072-996E-DB1820C3B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C5C9-9353-42F6-B66E-41B164437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0A81-B83A-448D-97EA-3D23C49D2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AFF27-A035-499E-A3E2-A11B90B99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6C52D-EACD-4965-A92B-73A27C2C9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4345C-87FA-47ED-8BB2-E7BA502A3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B3517-108D-434F-9B22-03E660FAB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27B4B-6CD9-4C78-B524-A73604A9E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F888C-6E7C-442F-869D-26FB83BAE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53CB1-DF44-4BAC-B5FC-E8AAEBA5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A8EF-888B-412E-B58A-3CC58A397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0FD6E-D53B-4800-8609-8C0C3BD78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0B631-5914-4DC0-BAD7-38944E5A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B14CF-66EB-48F4-A69A-9D50CEB6C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FD90B-DAB8-4BA0-B287-9634A7FDA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64FC4-79AD-4D6F-A8E3-2ADEFBAB8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80A94-A958-4E9D-81FE-4C807BAE0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F4F6F-2499-4FE5-BC48-E501AFBAB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3DF63-CB61-4AF2-8298-D93A43C58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32D8D-7316-47B9-B0CD-3B3FA4553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34CEC-0496-4B55-97DD-95395CAE3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A452-4437-47C1-A8D7-649C92475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75559-92BC-4332-BA46-09856B90B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7EECD-552E-4179-BF7D-14DD34230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9141E-34A9-43BA-9C96-D8CF104B3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D0518-B1E8-4C7E-A932-D3D22C90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20E6D-7E20-4684-956A-FEEC2A788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DAD29-AC9A-4C0E-B4E4-E6F481025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13251-C148-42F4-800C-C9B7EA13D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A11C-BF68-4CF6-A03B-B6D5E8712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7474-DC20-40AF-9941-4294CD3B8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0F33-9348-4542-958A-CEE3B5659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1E81-6338-470E-9591-047E1677D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3042-7A57-4B48-8FBA-7DB75294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589B-A68D-4366-864D-E3C03724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54CBB-4914-4B08-8B56-01B286D82E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49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0C3E6-04D0-42E4-947A-A64BA8756C2A}" type="slidenum">
              <a:rPr b="1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30481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8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9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E6DDB-CE6E-4C30-ADBC-E5746D2B093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96969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i="1" lang="en-US" sz="2800" spc="-1" strike="noStrike">
              <a:solidFill>
                <a:srgbClr val="96969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96969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0" i="1" lang="en-US" sz="2000" spc="-1" strike="noStrike">
              <a:solidFill>
                <a:srgbClr val="96969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0" i="1" lang="en-US" sz="2000" spc="-1" strike="noStrike">
              <a:solidFill>
                <a:srgbClr val="96969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0" i="1" lang="en-US" sz="2000" spc="-1" strike="noStrike">
              <a:solidFill>
                <a:srgbClr val="96969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0" i="1" lang="en-US" sz="2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6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6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6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000" y="1700280"/>
            <a:ext cx="644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hapter 3. Signalling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68360" y="2565000"/>
            <a:ext cx="6191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969696"/>
                </a:solidFill>
                <a:latin typeface="Arial"/>
              </a:rPr>
              <a:t>Summary - Sampling</a:t>
            </a:r>
            <a:endParaRPr b="0" i="1" lang="en-US" sz="4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325080" y="333360"/>
            <a:ext cx="342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oltage 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476360" y="1197000"/>
            <a:ext cx="68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voltage change represented by change of o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900000" y="4004280"/>
            <a:ext cx="554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solution =        Max vol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348000" y="4579920"/>
            <a:ext cx="374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umber of levels -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421080" y="4579920"/>
            <a:ext cx="352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77840" y="2778120"/>
            <a:ext cx="88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Smallest change in voltage that can be det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7668720" y="333360"/>
            <a:ext cx="11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742160" y="501660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80000" y="112680"/>
            <a:ext cx="374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solution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893880" y="1062000"/>
            <a:ext cx="7639920" cy="3881160"/>
            <a:chOff x="893880" y="1062000"/>
            <a:chExt cx="7639920" cy="3881160"/>
          </a:xfrm>
        </p:grpSpPr>
        <p:sp>
          <p:nvSpPr>
            <p:cNvPr id="486" name=""/>
            <p:cNvSpPr/>
            <p:nvPr/>
          </p:nvSpPr>
          <p:spPr>
            <a:xfrm>
              <a:off x="895320" y="1419120"/>
              <a:ext cx="7215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93880" y="1903320"/>
              <a:ext cx="7215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893880" y="2387520"/>
              <a:ext cx="7215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893880" y="2871720"/>
              <a:ext cx="7215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93880" y="3357360"/>
              <a:ext cx="7215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93880" y="3841560"/>
              <a:ext cx="7215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93880" y="4325760"/>
              <a:ext cx="7215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155080" y="44226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8153640" y="39114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8155080" y="34369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155080" y="29779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153640" y="25034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153640" y="21016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153640" y="15699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153640" y="10620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1311120" y="1496520"/>
            <a:ext cx="6100920" cy="3302280"/>
            <a:chOff x="1311120" y="1496520"/>
            <a:chExt cx="6100920" cy="3302280"/>
          </a:xfrm>
        </p:grpSpPr>
        <p:sp>
          <p:nvSpPr>
            <p:cNvPr id="502" name=""/>
            <p:cNvSpPr/>
            <p:nvPr/>
          </p:nvSpPr>
          <p:spPr>
            <a:xfrm flipV="1">
              <a:off x="1311120" y="3020400"/>
              <a:ext cx="0" cy="177804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flipV="1">
              <a:off x="1819080" y="1769760"/>
              <a:ext cx="0" cy="302904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2328840" y="2004480"/>
              <a:ext cx="0" cy="279432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2836800" y="3910320"/>
              <a:ext cx="0" cy="88848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3344760" y="1496520"/>
              <a:ext cx="0" cy="330228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3853440" y="1623600"/>
              <a:ext cx="0" cy="317484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4361400" y="2385360"/>
              <a:ext cx="0" cy="241344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4869360" y="4291200"/>
              <a:ext cx="0" cy="50760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5377680" y="4043520"/>
              <a:ext cx="13680" cy="75492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5886000" y="3020400"/>
              <a:ext cx="0" cy="177804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6395400" y="1623600"/>
              <a:ext cx="0" cy="317484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flipV="1">
              <a:off x="6903720" y="2131920"/>
              <a:ext cx="0" cy="266652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 flipV="1">
              <a:off x="7412040" y="4177440"/>
              <a:ext cx="0" cy="62136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"/>
          <p:cNvSpPr/>
          <p:nvPr/>
        </p:nvSpPr>
        <p:spPr>
          <a:xfrm>
            <a:off x="922320" y="739800"/>
            <a:ext cx="0" cy="4056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922320" y="4795920"/>
            <a:ext cx="7155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rot="16200000">
            <a:off x="-308160" y="2240280"/>
            <a:ext cx="155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912960" y="1152360"/>
            <a:ext cx="7779600" cy="3689280"/>
            <a:chOff x="912960" y="1152360"/>
            <a:chExt cx="7779600" cy="3689280"/>
          </a:xfrm>
        </p:grpSpPr>
        <p:sp>
          <p:nvSpPr>
            <p:cNvPr id="519" name=""/>
            <p:cNvSpPr/>
            <p:nvPr/>
          </p:nvSpPr>
          <p:spPr>
            <a:xfrm>
              <a:off x="912960" y="2071440"/>
              <a:ext cx="7215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912960" y="2525400"/>
              <a:ext cx="7215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912960" y="2979720"/>
              <a:ext cx="7215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912960" y="3435120"/>
              <a:ext cx="7215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912960" y="3889080"/>
              <a:ext cx="7215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912960" y="4343400"/>
              <a:ext cx="7215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912960" y="1844640"/>
              <a:ext cx="7215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912960" y="2298600"/>
              <a:ext cx="7215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912960" y="2752560"/>
              <a:ext cx="7215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912960" y="3208320"/>
              <a:ext cx="7215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912960" y="3662280"/>
              <a:ext cx="7215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912960" y="4116240"/>
              <a:ext cx="7215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912960" y="4570200"/>
              <a:ext cx="7215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912960" y="1617480"/>
              <a:ext cx="7215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912960" y="1390680"/>
              <a:ext cx="7215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8228160" y="43210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228160" y="38163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8228160" y="33843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8115480" y="162720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8115480" y="115236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8228160" y="29527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8228160" y="25207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8115480" y="210024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"/>
          <p:cNvSpPr/>
          <p:nvPr/>
        </p:nvSpPr>
        <p:spPr>
          <a:xfrm>
            <a:off x="252720" y="110340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1620360" y="5013360"/>
            <a:ext cx="5417280" cy="1084320"/>
            <a:chOff x="1620360" y="5013360"/>
            <a:chExt cx="5417280" cy="1084320"/>
          </a:xfrm>
        </p:grpSpPr>
        <p:sp>
          <p:nvSpPr>
            <p:cNvPr id="544" name=""/>
            <p:cNvSpPr/>
            <p:nvPr/>
          </p:nvSpPr>
          <p:spPr>
            <a:xfrm>
              <a:off x="1620360" y="5013360"/>
              <a:ext cx="5417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99"/>
                  </a:solidFill>
                  <a:latin typeface="Arial"/>
                </a:rPr>
                <a:t>3 bit resolution =   7V    =  1V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520160" y="5516280"/>
              <a:ext cx="1354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99"/>
                  </a:solidFill>
                  <a:latin typeface="Arial"/>
                </a:rPr>
                <a:t>(8 – 1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735440" y="5516280"/>
              <a:ext cx="1008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1404360" y="5084640"/>
            <a:ext cx="5981040" cy="1032120"/>
            <a:chOff x="1404360" y="5084640"/>
            <a:chExt cx="5981040" cy="1032120"/>
          </a:xfrm>
        </p:grpSpPr>
        <p:sp>
          <p:nvSpPr>
            <p:cNvPr id="548" name=""/>
            <p:cNvSpPr/>
            <p:nvPr/>
          </p:nvSpPr>
          <p:spPr>
            <a:xfrm>
              <a:off x="1404360" y="5084640"/>
              <a:ext cx="5981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99"/>
                  </a:solidFill>
                  <a:latin typeface="Arial"/>
                </a:rPr>
                <a:t>4 bit resolution =   7V    =  0.47V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212360" y="5535360"/>
              <a:ext cx="1579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99"/>
                  </a:solidFill>
                  <a:latin typeface="Arial"/>
                </a:rPr>
                <a:t>(16 – 1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500360" y="5565600"/>
              <a:ext cx="1008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2896920" y="380880"/>
            <a:ext cx="268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ampling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57200" y="152388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accurate representation of original signal sample at Nyquist frequ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05880" y="3505320"/>
            <a:ext cx="775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Nyquist frequency &gt; 2 x highest frequ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2557080" y="333360"/>
            <a:ext cx="365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ampling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19120" y="1268280"/>
            <a:ext cx="410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ing frequency,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16960" y="2340000"/>
            <a:ext cx="672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between consecutive sampl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7388280" y="211932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7464600" y="2695680"/>
            <a:ext cx="33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7380360" y="278136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519120" y="4067280"/>
            <a:ext cx="779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ling to match sampling frequency with signal leads to alia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563280" y="5516640"/>
            <a:ext cx="467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a true re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 flipV="1">
            <a:off x="4284720" y="5157360"/>
            <a:ext cx="216000" cy="358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68360" y="1700280"/>
            <a:ext cx="7020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hapter 3. Signalling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ubTitle"/>
          </p:nvPr>
        </p:nvSpPr>
        <p:spPr>
          <a:xfrm>
            <a:off x="468000" y="2565000"/>
            <a:ext cx="56847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969696"/>
                </a:solidFill>
                <a:latin typeface="Arial"/>
              </a:rPr>
              <a:t>Transfer rates</a:t>
            </a:r>
            <a:endParaRPr b="0" i="1" lang="en-US" sz="4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3123000" y="304920"/>
            <a:ext cx="27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ansfer 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17320" y="1235160"/>
            <a:ext cx="495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ing frequency = 1H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17680" y="2052720"/>
            <a:ext cx="470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between sample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5241960" y="1960560"/>
            <a:ext cx="2882880" cy="1469520"/>
            <a:chOff x="5241960" y="1960560"/>
            <a:chExt cx="2882880" cy="1469520"/>
          </a:xfrm>
        </p:grpSpPr>
        <p:sp>
          <p:nvSpPr>
            <p:cNvPr id="569" name=""/>
            <p:cNvSpPr/>
            <p:nvPr/>
          </p:nvSpPr>
          <p:spPr>
            <a:xfrm>
              <a:off x="5241960" y="2482920"/>
              <a:ext cx="19209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ampling frequenc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68720" y="19605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257800" y="2494080"/>
              <a:ext cx="1676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164000" y="2036880"/>
              <a:ext cx="960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= 1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153720" y="4572000"/>
            <a:ext cx="8562240" cy="1648080"/>
            <a:chOff x="153720" y="4572000"/>
            <a:chExt cx="8562240" cy="1648080"/>
          </a:xfrm>
        </p:grpSpPr>
        <p:sp>
          <p:nvSpPr>
            <p:cNvPr id="574" name=""/>
            <p:cNvSpPr/>
            <p:nvPr/>
          </p:nvSpPr>
          <p:spPr>
            <a:xfrm>
              <a:off x="380880" y="4800600"/>
              <a:ext cx="8077320" cy="1522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53720" y="510552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643120" y="510552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132160" y="510552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621560" y="510552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9" name=""/>
            <p:cNvGrpSpPr/>
            <p:nvPr/>
          </p:nvGrpSpPr>
          <p:grpSpPr>
            <a:xfrm>
              <a:off x="380880" y="4572000"/>
              <a:ext cx="7467840" cy="533520"/>
              <a:chOff x="380880" y="4572000"/>
              <a:chExt cx="7467840" cy="533520"/>
            </a:xfrm>
          </p:grpSpPr>
          <p:sp>
            <p:nvSpPr>
              <p:cNvPr id="580" name=""/>
              <p:cNvSpPr/>
              <p:nvPr/>
            </p:nvSpPr>
            <p:spPr>
              <a:xfrm flipV="1">
                <a:off x="380880" y="4572000"/>
                <a:ext cx="0" cy="5335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V="1">
                <a:off x="2870280" y="4572000"/>
                <a:ext cx="0" cy="5335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V="1">
                <a:off x="5359320" y="4572000"/>
                <a:ext cx="0" cy="5335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V="1">
                <a:off x="7848720" y="4572000"/>
                <a:ext cx="0" cy="5335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4" name=""/>
            <p:cNvSpPr/>
            <p:nvPr/>
          </p:nvSpPr>
          <p:spPr>
            <a:xfrm>
              <a:off x="7315920" y="563868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Time/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231480" y="4114800"/>
            <a:ext cx="8833320" cy="534960"/>
            <a:chOff x="231480" y="4114800"/>
            <a:chExt cx="8833320" cy="534960"/>
          </a:xfrm>
        </p:grpSpPr>
        <p:sp>
          <p:nvSpPr>
            <p:cNvPr id="586" name=""/>
            <p:cNvSpPr/>
            <p:nvPr/>
          </p:nvSpPr>
          <p:spPr>
            <a:xfrm>
              <a:off x="231480" y="4114800"/>
              <a:ext cx="138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Samp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69760" y="4129200"/>
              <a:ext cx="138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Samp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184360" y="4114800"/>
              <a:ext cx="138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Samp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678440" y="4114800"/>
              <a:ext cx="138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Samp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0" name=""/>
          <p:cNvGrpSpPr/>
          <p:nvPr/>
        </p:nvGrpSpPr>
        <p:grpSpPr>
          <a:xfrm>
            <a:off x="153720" y="3124080"/>
            <a:ext cx="8562240" cy="1648080"/>
            <a:chOff x="153720" y="3124080"/>
            <a:chExt cx="8562240" cy="1648080"/>
          </a:xfrm>
        </p:grpSpPr>
        <p:sp>
          <p:nvSpPr>
            <p:cNvPr id="591" name=""/>
            <p:cNvSpPr/>
            <p:nvPr/>
          </p:nvSpPr>
          <p:spPr>
            <a:xfrm>
              <a:off x="380880" y="3352680"/>
              <a:ext cx="8077320" cy="1522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53720" y="36576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643120" y="36576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132160" y="36576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621560" y="36576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380880" y="3124080"/>
              <a:ext cx="7467840" cy="533520"/>
              <a:chOff x="380880" y="3124080"/>
              <a:chExt cx="7467840" cy="533520"/>
            </a:xfrm>
          </p:grpSpPr>
          <p:sp>
            <p:nvSpPr>
              <p:cNvPr id="597" name=""/>
              <p:cNvSpPr/>
              <p:nvPr/>
            </p:nvSpPr>
            <p:spPr>
              <a:xfrm flipV="1">
                <a:off x="380880" y="3124080"/>
                <a:ext cx="0" cy="5335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V="1">
                <a:off x="2870280" y="3124080"/>
                <a:ext cx="0" cy="5335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V="1">
                <a:off x="5359320" y="3124080"/>
                <a:ext cx="0" cy="5335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V="1">
                <a:off x="7848720" y="3124080"/>
                <a:ext cx="0" cy="5335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1" name=""/>
            <p:cNvSpPr/>
            <p:nvPr/>
          </p:nvSpPr>
          <p:spPr>
            <a:xfrm>
              <a:off x="7315920" y="419076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Time/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"/>
          <p:cNvSpPr/>
          <p:nvPr/>
        </p:nvSpPr>
        <p:spPr>
          <a:xfrm>
            <a:off x="227160" y="380880"/>
            <a:ext cx="771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sample is 3 bits long (000, 010, 110 et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27520" y="1219320"/>
            <a:ext cx="652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transmit sample within 1s g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230040" y="2502000"/>
            <a:ext cx="2059200" cy="594000"/>
            <a:chOff x="230040" y="2502000"/>
            <a:chExt cx="2059200" cy="594000"/>
          </a:xfrm>
        </p:grpSpPr>
        <p:sp>
          <p:nvSpPr>
            <p:cNvPr id="605" name=""/>
            <p:cNvSpPr/>
            <p:nvPr/>
          </p:nvSpPr>
          <p:spPr>
            <a:xfrm>
              <a:off x="230040" y="25020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055520" y="25020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82800" y="25146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2709720" y="2502000"/>
            <a:ext cx="2059200" cy="594000"/>
            <a:chOff x="2709720" y="2502000"/>
            <a:chExt cx="2059200" cy="594000"/>
          </a:xfrm>
        </p:grpSpPr>
        <p:sp>
          <p:nvSpPr>
            <p:cNvPr id="609" name=""/>
            <p:cNvSpPr/>
            <p:nvPr/>
          </p:nvSpPr>
          <p:spPr>
            <a:xfrm>
              <a:off x="2709720" y="25020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99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535200" y="25020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99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362480" y="25146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99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5189400" y="2500200"/>
            <a:ext cx="2058840" cy="595800"/>
            <a:chOff x="5189400" y="2500200"/>
            <a:chExt cx="2058840" cy="595800"/>
          </a:xfrm>
        </p:grpSpPr>
        <p:sp>
          <p:nvSpPr>
            <p:cNvPr id="613" name=""/>
            <p:cNvSpPr/>
            <p:nvPr/>
          </p:nvSpPr>
          <p:spPr>
            <a:xfrm>
              <a:off x="5189400" y="250812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66ff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014880" y="25002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66ff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841800" y="25146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66ff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7669080" y="25146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1400760" y="4869000"/>
            <a:ext cx="606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er rate = 3 bits per sec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228600" y="178200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ransfer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3505320" y="1296000"/>
            <a:ext cx="2133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umber of bits per s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400800" y="1294200"/>
            <a:ext cx="2743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umber of samples per sec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5715000" y="1828080"/>
            <a:ext cx="38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2821320" y="175176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682920" y="2636640"/>
            <a:ext cx="5283000" cy="1661040"/>
            <a:chOff x="682920" y="2636640"/>
            <a:chExt cx="5283000" cy="1661040"/>
          </a:xfrm>
        </p:grpSpPr>
        <p:sp>
          <p:nvSpPr>
            <p:cNvPr id="624" name=""/>
            <p:cNvSpPr/>
            <p:nvPr/>
          </p:nvSpPr>
          <p:spPr>
            <a:xfrm>
              <a:off x="682920" y="3716280"/>
              <a:ext cx="528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asured in bits per secon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 flipV="1">
              <a:off x="1619280" y="2636640"/>
              <a:ext cx="288720" cy="1152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330120" y="0"/>
            <a:ext cx="165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0000"/>
                </a:solidFill>
                <a:uFillTx/>
                <a:latin typeface="Playbill"/>
              </a:rPr>
              <a:t>Fax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" descr=""/>
          <p:cNvPicPr/>
          <p:nvPr/>
        </p:nvPicPr>
        <p:blipFill>
          <a:blip r:embed="rId1"/>
          <a:stretch/>
        </p:blipFill>
        <p:spPr>
          <a:xfrm>
            <a:off x="4978440" y="260280"/>
            <a:ext cx="4165560" cy="2514600"/>
          </a:xfrm>
          <a:prstGeom prst="rect">
            <a:avLst/>
          </a:prstGeom>
          <a:ln w="0">
            <a:noFill/>
          </a:ln>
        </p:spPr>
      </p:pic>
      <p:sp>
        <p:nvSpPr>
          <p:cNvPr id="628" name=""/>
          <p:cNvSpPr/>
          <p:nvPr/>
        </p:nvSpPr>
        <p:spPr>
          <a:xfrm>
            <a:off x="250920" y="1268280"/>
            <a:ext cx="477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es page into a grid     of pix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51640" y="2492280"/>
            <a:ext cx="391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pixel is 1 b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250560" y="4505400"/>
            <a:ext cx="666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to transfer information - la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250920" y="5300640"/>
            <a:ext cx="8569080" cy="1148040"/>
            <a:chOff x="250920" y="5300640"/>
            <a:chExt cx="8569080" cy="1148040"/>
          </a:xfrm>
        </p:grpSpPr>
        <p:sp>
          <p:nvSpPr>
            <p:cNvPr id="632" name=""/>
            <p:cNvSpPr/>
            <p:nvPr/>
          </p:nvSpPr>
          <p:spPr>
            <a:xfrm>
              <a:off x="250920" y="5300640"/>
              <a:ext cx="8569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Time = Total number of bits to be transferre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614040" y="5867280"/>
              <a:ext cx="2506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Transfer rat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690560" y="5877000"/>
              <a:ext cx="676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5" name=""/>
          <p:cNvSpPr/>
          <p:nvPr/>
        </p:nvSpPr>
        <p:spPr>
          <a:xfrm>
            <a:off x="250920" y="3203640"/>
            <a:ext cx="8589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le page is encoded – so includes unnecessary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15840" y="-46080"/>
            <a:ext cx="253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0000"/>
                </a:solidFill>
                <a:uFillTx/>
                <a:latin typeface="Playbill"/>
              </a:rPr>
              <a:t>Email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" descr=""/>
          <p:cNvPicPr/>
          <p:nvPr/>
        </p:nvPicPr>
        <p:blipFill>
          <a:blip r:embed="rId1"/>
          <a:stretch/>
        </p:blipFill>
        <p:spPr>
          <a:xfrm>
            <a:off x="5940360" y="189000"/>
            <a:ext cx="2838600" cy="3009960"/>
          </a:xfrm>
          <a:prstGeom prst="rect">
            <a:avLst/>
          </a:prstGeom>
          <a:ln w="0">
            <a:noFill/>
          </a:ln>
        </p:spPr>
      </p:pic>
      <p:sp>
        <p:nvSpPr>
          <p:cNvPr id="638" name=""/>
          <p:cNvSpPr/>
          <p:nvPr/>
        </p:nvSpPr>
        <p:spPr>
          <a:xfrm>
            <a:off x="376200" y="1258920"/>
            <a:ext cx="549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ASCII code – each character associated with a binary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75120" y="2924280"/>
            <a:ext cx="650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character is an 8 bit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76200" y="4292640"/>
            <a:ext cx="84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to transfer information – small (as fewer bits compared to the same message if fax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72240" y="3635280"/>
            <a:ext cx="838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characters are encoded – very effic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259640" y="189000"/>
            <a:ext cx="634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w to digitise an analogue sig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64120" y="598500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73160" y="2991960"/>
            <a:ext cx="5175360" cy="2802240"/>
            <a:chOff x="1973160" y="2991960"/>
            <a:chExt cx="5175360" cy="2802240"/>
          </a:xfrm>
        </p:grpSpPr>
        <p:sp>
          <p:nvSpPr>
            <p:cNvPr id="129" name=""/>
            <p:cNvSpPr/>
            <p:nvPr/>
          </p:nvSpPr>
          <p:spPr>
            <a:xfrm flipV="1">
              <a:off x="1973160" y="4284720"/>
              <a:ext cx="0" cy="150876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2404080" y="3223440"/>
              <a:ext cx="0" cy="257004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2836440" y="3422880"/>
              <a:ext cx="0" cy="237096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267360" y="5040360"/>
              <a:ext cx="0" cy="75384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3698280" y="2991960"/>
              <a:ext cx="0" cy="280188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4129560" y="3099600"/>
              <a:ext cx="0" cy="269388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4560840" y="3745800"/>
              <a:ext cx="0" cy="204804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4991760" y="5363280"/>
              <a:ext cx="0" cy="43056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5422680" y="5153040"/>
              <a:ext cx="11520" cy="64044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5853960" y="4284720"/>
              <a:ext cx="0" cy="150876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6285960" y="3099600"/>
              <a:ext cx="0" cy="269388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6717240" y="3530880"/>
              <a:ext cx="0" cy="226260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7148520" y="5266080"/>
              <a:ext cx="0" cy="52740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1758960" y="2584440"/>
            <a:ext cx="5711760" cy="3000240"/>
          </a:xfrm>
          <a:custGeom>
            <a:avLst/>
            <a:gdLst/>
            <a:ahLst/>
            <a:rect l="l" t="t" r="r" b="b"/>
            <a:pathLst>
              <a:path w="2544" h="1336">
                <a:moveTo>
                  <a:pt x="0" y="712"/>
                </a:moveTo>
                <a:cubicBezTo>
                  <a:pt x="16" y="784"/>
                  <a:pt x="32" y="856"/>
                  <a:pt x="96" y="760"/>
                </a:cubicBezTo>
                <a:cubicBezTo>
                  <a:pt x="160" y="664"/>
                  <a:pt x="304" y="136"/>
                  <a:pt x="384" y="136"/>
                </a:cubicBezTo>
                <a:cubicBezTo>
                  <a:pt x="464" y="136"/>
                  <a:pt x="520" y="600"/>
                  <a:pt x="576" y="760"/>
                </a:cubicBezTo>
                <a:cubicBezTo>
                  <a:pt x="632" y="920"/>
                  <a:pt x="672" y="1200"/>
                  <a:pt x="720" y="1096"/>
                </a:cubicBezTo>
                <a:cubicBezTo>
                  <a:pt x="768" y="992"/>
                  <a:pt x="824" y="224"/>
                  <a:pt x="864" y="136"/>
                </a:cubicBezTo>
                <a:cubicBezTo>
                  <a:pt x="904" y="48"/>
                  <a:pt x="928" y="560"/>
                  <a:pt x="960" y="568"/>
                </a:cubicBezTo>
                <a:cubicBezTo>
                  <a:pt x="992" y="576"/>
                  <a:pt x="1024" y="120"/>
                  <a:pt x="1056" y="184"/>
                </a:cubicBezTo>
                <a:cubicBezTo>
                  <a:pt x="1088" y="248"/>
                  <a:pt x="1112" y="920"/>
                  <a:pt x="1152" y="952"/>
                </a:cubicBezTo>
                <a:cubicBezTo>
                  <a:pt x="1192" y="984"/>
                  <a:pt x="1248" y="328"/>
                  <a:pt x="1296" y="376"/>
                </a:cubicBezTo>
                <a:cubicBezTo>
                  <a:pt x="1344" y="424"/>
                  <a:pt x="1360" y="1144"/>
                  <a:pt x="1440" y="1240"/>
                </a:cubicBezTo>
                <a:cubicBezTo>
                  <a:pt x="1520" y="1336"/>
                  <a:pt x="1704" y="1104"/>
                  <a:pt x="1776" y="952"/>
                </a:cubicBezTo>
                <a:cubicBezTo>
                  <a:pt x="1848" y="800"/>
                  <a:pt x="1840" y="480"/>
                  <a:pt x="1872" y="328"/>
                </a:cubicBezTo>
                <a:cubicBezTo>
                  <a:pt x="1904" y="176"/>
                  <a:pt x="1928" y="0"/>
                  <a:pt x="1968" y="40"/>
                </a:cubicBezTo>
                <a:cubicBezTo>
                  <a:pt x="2008" y="80"/>
                  <a:pt x="2064" y="512"/>
                  <a:pt x="2112" y="568"/>
                </a:cubicBezTo>
                <a:cubicBezTo>
                  <a:pt x="2160" y="624"/>
                  <a:pt x="2208" y="272"/>
                  <a:pt x="2256" y="376"/>
                </a:cubicBezTo>
                <a:cubicBezTo>
                  <a:pt x="2304" y="480"/>
                  <a:pt x="2352" y="1160"/>
                  <a:pt x="2400" y="1192"/>
                </a:cubicBezTo>
                <a:cubicBezTo>
                  <a:pt x="2448" y="1224"/>
                  <a:pt x="2528" y="696"/>
                  <a:pt x="2544" y="568"/>
                </a:cubicBezTo>
              </a:path>
            </a:pathLst>
          </a:custGeom>
          <a:noFill/>
          <a:ln w="5724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643040" y="2349360"/>
            <a:ext cx="0" cy="3441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643040" y="5791320"/>
            <a:ext cx="6068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16200000">
            <a:off x="339120" y="2876760"/>
            <a:ext cx="155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4000" y="981000"/>
            <a:ext cx="8661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analogue signal and at regular intervals record vol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2411280" y="5950080"/>
            <a:ext cx="2160720" cy="911160"/>
            <a:chOff x="2411280" y="5950080"/>
            <a:chExt cx="2160720" cy="911160"/>
          </a:xfrm>
        </p:grpSpPr>
        <p:sp>
          <p:nvSpPr>
            <p:cNvPr id="148" name=""/>
            <p:cNvSpPr/>
            <p:nvPr/>
          </p:nvSpPr>
          <p:spPr>
            <a:xfrm>
              <a:off x="2411280" y="6035760"/>
              <a:ext cx="2160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Time between samp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76720" y="5950080"/>
              <a:ext cx="4316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68360" y="1700280"/>
            <a:ext cx="7020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hapter 3. Signalling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468000" y="2565000"/>
            <a:ext cx="56847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969696"/>
                </a:solidFill>
                <a:latin typeface="Arial"/>
              </a:rPr>
              <a:t>Bandwidth</a:t>
            </a:r>
            <a:endParaRPr b="0" i="1" lang="en-US" sz="4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250920" y="33336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ontrols the transfer rate of the digital signa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634200" y="907920"/>
            <a:ext cx="332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arrier frequ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1203480" y="5659560"/>
            <a:ext cx="6645960" cy="793440"/>
            <a:chOff x="1203480" y="5659560"/>
            <a:chExt cx="6645960" cy="793440"/>
          </a:xfrm>
        </p:grpSpPr>
        <p:grpSp>
          <p:nvGrpSpPr>
            <p:cNvPr id="647" name=""/>
            <p:cNvGrpSpPr/>
            <p:nvPr/>
          </p:nvGrpSpPr>
          <p:grpSpPr>
            <a:xfrm>
              <a:off x="2530440" y="5659560"/>
              <a:ext cx="662400" cy="793440"/>
              <a:chOff x="2530440" y="5659560"/>
              <a:chExt cx="662400" cy="793440"/>
            </a:xfrm>
          </p:grpSpPr>
          <p:sp>
            <p:nvSpPr>
              <p:cNvPr id="648" name=""/>
              <p:cNvSpPr/>
              <p:nvPr/>
            </p:nvSpPr>
            <p:spPr>
              <a:xfrm>
                <a:off x="2530440" y="5659560"/>
                <a:ext cx="331200" cy="396720"/>
              </a:xfrm>
              <a:custGeom>
                <a:avLst/>
                <a:gdLst/>
                <a:ahLst/>
                <a:rect l="l" t="t" r="r" b="b"/>
                <a:pathLst>
                  <a:path w="2268" h="1134">
                    <a:moveTo>
                      <a:pt x="0" y="1134"/>
                    </a:moveTo>
                    <a:cubicBezTo>
                      <a:pt x="378" y="567"/>
                      <a:pt x="756" y="0"/>
                      <a:pt x="1134" y="0"/>
                    </a:cubicBezTo>
                    <a:cubicBezTo>
                      <a:pt x="1512" y="0"/>
                      <a:pt x="1890" y="567"/>
                      <a:pt x="2268" y="1134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flipV="1">
                <a:off x="2861640" y="6056280"/>
                <a:ext cx="331200" cy="396720"/>
              </a:xfrm>
              <a:custGeom>
                <a:avLst/>
                <a:gdLst/>
                <a:ahLst/>
                <a:rect l="l" t="t" r="r" b="b"/>
                <a:pathLst>
                  <a:path w="2268" h="1134">
                    <a:moveTo>
                      <a:pt x="0" y="1134"/>
                    </a:moveTo>
                    <a:cubicBezTo>
                      <a:pt x="378" y="567"/>
                      <a:pt x="756" y="0"/>
                      <a:pt x="1134" y="0"/>
                    </a:cubicBezTo>
                    <a:cubicBezTo>
                      <a:pt x="1512" y="0"/>
                      <a:pt x="1890" y="567"/>
                      <a:pt x="2268" y="1134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0" name=""/>
            <p:cNvGrpSpPr/>
            <p:nvPr/>
          </p:nvGrpSpPr>
          <p:grpSpPr>
            <a:xfrm>
              <a:off x="1203480" y="5659560"/>
              <a:ext cx="661680" cy="793440"/>
              <a:chOff x="1203480" y="5659560"/>
              <a:chExt cx="661680" cy="793440"/>
            </a:xfrm>
          </p:grpSpPr>
          <p:sp>
            <p:nvSpPr>
              <p:cNvPr id="651" name=""/>
              <p:cNvSpPr/>
              <p:nvPr/>
            </p:nvSpPr>
            <p:spPr>
              <a:xfrm>
                <a:off x="1203480" y="5659560"/>
                <a:ext cx="330840" cy="396720"/>
              </a:xfrm>
              <a:custGeom>
                <a:avLst/>
                <a:gdLst/>
                <a:ahLst/>
                <a:rect l="l" t="t" r="r" b="b"/>
                <a:pathLst>
                  <a:path w="2268" h="1134">
                    <a:moveTo>
                      <a:pt x="0" y="1134"/>
                    </a:moveTo>
                    <a:cubicBezTo>
                      <a:pt x="378" y="567"/>
                      <a:pt x="756" y="0"/>
                      <a:pt x="1134" y="0"/>
                    </a:cubicBezTo>
                    <a:cubicBezTo>
                      <a:pt x="1512" y="0"/>
                      <a:pt x="1890" y="567"/>
                      <a:pt x="2268" y="1134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 flipV="1">
                <a:off x="1534320" y="6056280"/>
                <a:ext cx="330840" cy="396720"/>
              </a:xfrm>
              <a:custGeom>
                <a:avLst/>
                <a:gdLst/>
                <a:ahLst/>
                <a:rect l="l" t="t" r="r" b="b"/>
                <a:pathLst>
                  <a:path w="2268" h="1134">
                    <a:moveTo>
                      <a:pt x="0" y="1134"/>
                    </a:moveTo>
                    <a:cubicBezTo>
                      <a:pt x="378" y="567"/>
                      <a:pt x="756" y="0"/>
                      <a:pt x="1134" y="0"/>
                    </a:cubicBezTo>
                    <a:cubicBezTo>
                      <a:pt x="1512" y="0"/>
                      <a:pt x="1890" y="567"/>
                      <a:pt x="2268" y="1134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3" name=""/>
            <p:cNvGrpSpPr/>
            <p:nvPr/>
          </p:nvGrpSpPr>
          <p:grpSpPr>
            <a:xfrm>
              <a:off x="1865160" y="5659560"/>
              <a:ext cx="662400" cy="793440"/>
              <a:chOff x="1865160" y="5659560"/>
              <a:chExt cx="662400" cy="793440"/>
            </a:xfrm>
          </p:grpSpPr>
          <p:sp>
            <p:nvSpPr>
              <p:cNvPr id="654" name=""/>
              <p:cNvSpPr/>
              <p:nvPr/>
            </p:nvSpPr>
            <p:spPr>
              <a:xfrm>
                <a:off x="1865160" y="5659560"/>
                <a:ext cx="331200" cy="396720"/>
              </a:xfrm>
              <a:custGeom>
                <a:avLst/>
                <a:gdLst/>
                <a:ahLst/>
                <a:rect l="l" t="t" r="r" b="b"/>
                <a:pathLst>
                  <a:path w="2268" h="1134">
                    <a:moveTo>
                      <a:pt x="0" y="1134"/>
                    </a:moveTo>
                    <a:cubicBezTo>
                      <a:pt x="378" y="567"/>
                      <a:pt x="756" y="0"/>
                      <a:pt x="1134" y="0"/>
                    </a:cubicBezTo>
                    <a:cubicBezTo>
                      <a:pt x="1512" y="0"/>
                      <a:pt x="1890" y="567"/>
                      <a:pt x="2268" y="1134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flipV="1">
                <a:off x="2196360" y="6056280"/>
                <a:ext cx="331200" cy="396720"/>
              </a:xfrm>
              <a:custGeom>
                <a:avLst/>
                <a:gdLst/>
                <a:ahLst/>
                <a:rect l="l" t="t" r="r" b="b"/>
                <a:pathLst>
                  <a:path w="2268" h="1134">
                    <a:moveTo>
                      <a:pt x="0" y="1134"/>
                    </a:moveTo>
                    <a:cubicBezTo>
                      <a:pt x="378" y="567"/>
                      <a:pt x="756" y="0"/>
                      <a:pt x="1134" y="0"/>
                    </a:cubicBezTo>
                    <a:cubicBezTo>
                      <a:pt x="1512" y="0"/>
                      <a:pt x="1890" y="567"/>
                      <a:pt x="2268" y="1134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6" name=""/>
            <p:cNvGrpSpPr/>
            <p:nvPr/>
          </p:nvGrpSpPr>
          <p:grpSpPr>
            <a:xfrm>
              <a:off x="3195720" y="5659560"/>
              <a:ext cx="662400" cy="793440"/>
              <a:chOff x="3195720" y="5659560"/>
              <a:chExt cx="662400" cy="793440"/>
            </a:xfrm>
          </p:grpSpPr>
          <p:sp>
            <p:nvSpPr>
              <p:cNvPr id="657" name=""/>
              <p:cNvSpPr/>
              <p:nvPr/>
            </p:nvSpPr>
            <p:spPr>
              <a:xfrm>
                <a:off x="3195720" y="5659560"/>
                <a:ext cx="331200" cy="396720"/>
              </a:xfrm>
              <a:custGeom>
                <a:avLst/>
                <a:gdLst/>
                <a:ahLst/>
                <a:rect l="l" t="t" r="r" b="b"/>
                <a:pathLst>
                  <a:path w="2268" h="1134">
                    <a:moveTo>
                      <a:pt x="0" y="1134"/>
                    </a:moveTo>
                    <a:cubicBezTo>
                      <a:pt x="378" y="567"/>
                      <a:pt x="756" y="0"/>
                      <a:pt x="1134" y="0"/>
                    </a:cubicBezTo>
                    <a:cubicBezTo>
                      <a:pt x="1512" y="0"/>
                      <a:pt x="1890" y="567"/>
                      <a:pt x="2268" y="1134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flipV="1">
                <a:off x="3526920" y="6056280"/>
                <a:ext cx="331200" cy="396720"/>
              </a:xfrm>
              <a:custGeom>
                <a:avLst/>
                <a:gdLst/>
                <a:ahLst/>
                <a:rect l="l" t="t" r="r" b="b"/>
                <a:pathLst>
                  <a:path w="2268" h="1134">
                    <a:moveTo>
                      <a:pt x="0" y="1134"/>
                    </a:moveTo>
                    <a:cubicBezTo>
                      <a:pt x="378" y="567"/>
                      <a:pt x="756" y="0"/>
                      <a:pt x="1134" y="0"/>
                    </a:cubicBezTo>
                    <a:cubicBezTo>
                      <a:pt x="1512" y="0"/>
                      <a:pt x="1890" y="567"/>
                      <a:pt x="2268" y="1134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9" name=""/>
            <p:cNvGrpSpPr/>
            <p:nvPr/>
          </p:nvGrpSpPr>
          <p:grpSpPr>
            <a:xfrm>
              <a:off x="3861000" y="5659560"/>
              <a:ext cx="662400" cy="793440"/>
              <a:chOff x="3861000" y="5659560"/>
              <a:chExt cx="662400" cy="793440"/>
            </a:xfrm>
          </p:grpSpPr>
          <p:sp>
            <p:nvSpPr>
              <p:cNvPr id="660" name=""/>
              <p:cNvSpPr/>
              <p:nvPr/>
            </p:nvSpPr>
            <p:spPr>
              <a:xfrm>
                <a:off x="3861000" y="5659560"/>
                <a:ext cx="331200" cy="396720"/>
              </a:xfrm>
              <a:custGeom>
                <a:avLst/>
                <a:gdLst/>
                <a:ahLst/>
                <a:rect l="l" t="t" r="r" b="b"/>
                <a:pathLst>
                  <a:path w="2268" h="1134">
                    <a:moveTo>
                      <a:pt x="0" y="1134"/>
                    </a:moveTo>
                    <a:cubicBezTo>
                      <a:pt x="378" y="567"/>
                      <a:pt x="756" y="0"/>
                      <a:pt x="1134" y="0"/>
                    </a:cubicBezTo>
                    <a:cubicBezTo>
                      <a:pt x="1512" y="0"/>
                      <a:pt x="1890" y="567"/>
                      <a:pt x="2268" y="1134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V="1">
                <a:off x="4192200" y="6056280"/>
                <a:ext cx="331200" cy="396720"/>
              </a:xfrm>
              <a:custGeom>
                <a:avLst/>
                <a:gdLst/>
                <a:ahLst/>
                <a:rect l="l" t="t" r="r" b="b"/>
                <a:pathLst>
                  <a:path w="2268" h="1134">
                    <a:moveTo>
                      <a:pt x="0" y="1134"/>
                    </a:moveTo>
                    <a:cubicBezTo>
                      <a:pt x="378" y="567"/>
                      <a:pt x="756" y="0"/>
                      <a:pt x="1134" y="0"/>
                    </a:cubicBezTo>
                    <a:cubicBezTo>
                      <a:pt x="1512" y="0"/>
                      <a:pt x="1890" y="567"/>
                      <a:pt x="2268" y="1134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2" name=""/>
            <p:cNvGrpSpPr/>
            <p:nvPr/>
          </p:nvGrpSpPr>
          <p:grpSpPr>
            <a:xfrm>
              <a:off x="4526280" y="5659560"/>
              <a:ext cx="662400" cy="793440"/>
              <a:chOff x="4526280" y="5659560"/>
              <a:chExt cx="662400" cy="793440"/>
            </a:xfrm>
          </p:grpSpPr>
          <p:sp>
            <p:nvSpPr>
              <p:cNvPr id="663" name=""/>
              <p:cNvSpPr/>
              <p:nvPr/>
            </p:nvSpPr>
            <p:spPr>
              <a:xfrm>
                <a:off x="4526280" y="5659560"/>
                <a:ext cx="331200" cy="396720"/>
              </a:xfrm>
              <a:custGeom>
                <a:avLst/>
                <a:gdLst/>
                <a:ahLst/>
                <a:rect l="l" t="t" r="r" b="b"/>
                <a:pathLst>
                  <a:path w="2268" h="1134">
                    <a:moveTo>
                      <a:pt x="0" y="1134"/>
                    </a:moveTo>
                    <a:cubicBezTo>
                      <a:pt x="378" y="567"/>
                      <a:pt x="756" y="0"/>
                      <a:pt x="1134" y="0"/>
                    </a:cubicBezTo>
                    <a:cubicBezTo>
                      <a:pt x="1512" y="0"/>
                      <a:pt x="1890" y="567"/>
                      <a:pt x="2268" y="1134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V="1">
                <a:off x="4857480" y="6056280"/>
                <a:ext cx="331200" cy="396720"/>
              </a:xfrm>
              <a:custGeom>
                <a:avLst/>
                <a:gdLst/>
                <a:ahLst/>
                <a:rect l="l" t="t" r="r" b="b"/>
                <a:pathLst>
                  <a:path w="2268" h="1134">
                    <a:moveTo>
                      <a:pt x="0" y="1134"/>
                    </a:moveTo>
                    <a:cubicBezTo>
                      <a:pt x="378" y="567"/>
                      <a:pt x="756" y="0"/>
                      <a:pt x="1134" y="0"/>
                    </a:cubicBezTo>
                    <a:cubicBezTo>
                      <a:pt x="1512" y="0"/>
                      <a:pt x="1890" y="567"/>
                      <a:pt x="2268" y="1134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5" name=""/>
            <p:cNvGrpSpPr/>
            <p:nvPr/>
          </p:nvGrpSpPr>
          <p:grpSpPr>
            <a:xfrm>
              <a:off x="6521760" y="5659560"/>
              <a:ext cx="662400" cy="793440"/>
              <a:chOff x="6521760" y="5659560"/>
              <a:chExt cx="662400" cy="793440"/>
            </a:xfrm>
          </p:grpSpPr>
          <p:sp>
            <p:nvSpPr>
              <p:cNvPr id="666" name=""/>
              <p:cNvSpPr/>
              <p:nvPr/>
            </p:nvSpPr>
            <p:spPr>
              <a:xfrm>
                <a:off x="6521760" y="5659560"/>
                <a:ext cx="331200" cy="396720"/>
              </a:xfrm>
              <a:custGeom>
                <a:avLst/>
                <a:gdLst/>
                <a:ahLst/>
                <a:rect l="l" t="t" r="r" b="b"/>
                <a:pathLst>
                  <a:path w="2268" h="1134">
                    <a:moveTo>
                      <a:pt x="0" y="1134"/>
                    </a:moveTo>
                    <a:cubicBezTo>
                      <a:pt x="378" y="567"/>
                      <a:pt x="756" y="0"/>
                      <a:pt x="1134" y="0"/>
                    </a:cubicBezTo>
                    <a:cubicBezTo>
                      <a:pt x="1512" y="0"/>
                      <a:pt x="1890" y="567"/>
                      <a:pt x="2268" y="1134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V="1">
                <a:off x="6852960" y="6056280"/>
                <a:ext cx="331200" cy="396720"/>
              </a:xfrm>
              <a:custGeom>
                <a:avLst/>
                <a:gdLst/>
                <a:ahLst/>
                <a:rect l="l" t="t" r="r" b="b"/>
                <a:pathLst>
                  <a:path w="2268" h="1134">
                    <a:moveTo>
                      <a:pt x="0" y="1134"/>
                    </a:moveTo>
                    <a:cubicBezTo>
                      <a:pt x="378" y="567"/>
                      <a:pt x="756" y="0"/>
                      <a:pt x="1134" y="0"/>
                    </a:cubicBezTo>
                    <a:cubicBezTo>
                      <a:pt x="1512" y="0"/>
                      <a:pt x="1890" y="567"/>
                      <a:pt x="2268" y="1134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8" name=""/>
            <p:cNvGrpSpPr/>
            <p:nvPr/>
          </p:nvGrpSpPr>
          <p:grpSpPr>
            <a:xfrm>
              <a:off x="5194800" y="5659560"/>
              <a:ext cx="661680" cy="793440"/>
              <a:chOff x="5194800" y="5659560"/>
              <a:chExt cx="661680" cy="793440"/>
            </a:xfrm>
          </p:grpSpPr>
          <p:sp>
            <p:nvSpPr>
              <p:cNvPr id="669" name=""/>
              <p:cNvSpPr/>
              <p:nvPr/>
            </p:nvSpPr>
            <p:spPr>
              <a:xfrm>
                <a:off x="5194800" y="5659560"/>
                <a:ext cx="330840" cy="396720"/>
              </a:xfrm>
              <a:custGeom>
                <a:avLst/>
                <a:gdLst/>
                <a:ahLst/>
                <a:rect l="l" t="t" r="r" b="b"/>
                <a:pathLst>
                  <a:path w="2268" h="1134">
                    <a:moveTo>
                      <a:pt x="0" y="1134"/>
                    </a:moveTo>
                    <a:cubicBezTo>
                      <a:pt x="378" y="567"/>
                      <a:pt x="756" y="0"/>
                      <a:pt x="1134" y="0"/>
                    </a:cubicBezTo>
                    <a:cubicBezTo>
                      <a:pt x="1512" y="0"/>
                      <a:pt x="1890" y="567"/>
                      <a:pt x="2268" y="1134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flipV="1">
                <a:off x="5525640" y="6056280"/>
                <a:ext cx="330840" cy="396720"/>
              </a:xfrm>
              <a:custGeom>
                <a:avLst/>
                <a:gdLst/>
                <a:ahLst/>
                <a:rect l="l" t="t" r="r" b="b"/>
                <a:pathLst>
                  <a:path w="2268" h="1134">
                    <a:moveTo>
                      <a:pt x="0" y="1134"/>
                    </a:moveTo>
                    <a:cubicBezTo>
                      <a:pt x="378" y="567"/>
                      <a:pt x="756" y="0"/>
                      <a:pt x="1134" y="0"/>
                    </a:cubicBezTo>
                    <a:cubicBezTo>
                      <a:pt x="1512" y="0"/>
                      <a:pt x="1890" y="567"/>
                      <a:pt x="2268" y="1134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5856480" y="5659560"/>
              <a:ext cx="662400" cy="793440"/>
              <a:chOff x="5856480" y="5659560"/>
              <a:chExt cx="662400" cy="793440"/>
            </a:xfrm>
          </p:grpSpPr>
          <p:sp>
            <p:nvSpPr>
              <p:cNvPr id="672" name=""/>
              <p:cNvSpPr/>
              <p:nvPr/>
            </p:nvSpPr>
            <p:spPr>
              <a:xfrm>
                <a:off x="5856480" y="5659560"/>
                <a:ext cx="331200" cy="396720"/>
              </a:xfrm>
              <a:custGeom>
                <a:avLst/>
                <a:gdLst/>
                <a:ahLst/>
                <a:rect l="l" t="t" r="r" b="b"/>
                <a:pathLst>
                  <a:path w="2268" h="1134">
                    <a:moveTo>
                      <a:pt x="0" y="1134"/>
                    </a:moveTo>
                    <a:cubicBezTo>
                      <a:pt x="378" y="567"/>
                      <a:pt x="756" y="0"/>
                      <a:pt x="1134" y="0"/>
                    </a:cubicBezTo>
                    <a:cubicBezTo>
                      <a:pt x="1512" y="0"/>
                      <a:pt x="1890" y="567"/>
                      <a:pt x="2268" y="1134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V="1">
                <a:off x="6187680" y="6056280"/>
                <a:ext cx="331200" cy="396720"/>
              </a:xfrm>
              <a:custGeom>
                <a:avLst/>
                <a:gdLst/>
                <a:ahLst/>
                <a:rect l="l" t="t" r="r" b="b"/>
                <a:pathLst>
                  <a:path w="2268" h="1134">
                    <a:moveTo>
                      <a:pt x="0" y="1134"/>
                    </a:moveTo>
                    <a:cubicBezTo>
                      <a:pt x="378" y="567"/>
                      <a:pt x="756" y="0"/>
                      <a:pt x="1134" y="0"/>
                    </a:cubicBezTo>
                    <a:cubicBezTo>
                      <a:pt x="1512" y="0"/>
                      <a:pt x="1890" y="567"/>
                      <a:pt x="2268" y="1134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4" name=""/>
            <p:cNvGrpSpPr/>
            <p:nvPr/>
          </p:nvGrpSpPr>
          <p:grpSpPr>
            <a:xfrm>
              <a:off x="7187040" y="5659560"/>
              <a:ext cx="662400" cy="793440"/>
              <a:chOff x="7187040" y="5659560"/>
              <a:chExt cx="662400" cy="793440"/>
            </a:xfrm>
          </p:grpSpPr>
          <p:sp>
            <p:nvSpPr>
              <p:cNvPr id="675" name=""/>
              <p:cNvSpPr/>
              <p:nvPr/>
            </p:nvSpPr>
            <p:spPr>
              <a:xfrm>
                <a:off x="7187040" y="5659560"/>
                <a:ext cx="331200" cy="396720"/>
              </a:xfrm>
              <a:custGeom>
                <a:avLst/>
                <a:gdLst/>
                <a:ahLst/>
                <a:rect l="l" t="t" r="r" b="b"/>
                <a:pathLst>
                  <a:path w="2268" h="1134">
                    <a:moveTo>
                      <a:pt x="0" y="1134"/>
                    </a:moveTo>
                    <a:cubicBezTo>
                      <a:pt x="378" y="567"/>
                      <a:pt x="756" y="0"/>
                      <a:pt x="1134" y="0"/>
                    </a:cubicBezTo>
                    <a:cubicBezTo>
                      <a:pt x="1512" y="0"/>
                      <a:pt x="1890" y="567"/>
                      <a:pt x="2268" y="1134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flipV="1">
                <a:off x="7518240" y="6056280"/>
                <a:ext cx="331200" cy="396720"/>
              </a:xfrm>
              <a:custGeom>
                <a:avLst/>
                <a:gdLst/>
                <a:ahLst/>
                <a:rect l="l" t="t" r="r" b="b"/>
                <a:pathLst>
                  <a:path w="2268" h="1134">
                    <a:moveTo>
                      <a:pt x="0" y="1134"/>
                    </a:moveTo>
                    <a:cubicBezTo>
                      <a:pt x="378" y="567"/>
                      <a:pt x="756" y="0"/>
                      <a:pt x="1134" y="0"/>
                    </a:cubicBezTo>
                    <a:cubicBezTo>
                      <a:pt x="1512" y="0"/>
                      <a:pt x="1890" y="567"/>
                      <a:pt x="2268" y="1134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77" name=""/>
          <p:cNvGrpSpPr/>
          <p:nvPr/>
        </p:nvGrpSpPr>
        <p:grpSpPr>
          <a:xfrm>
            <a:off x="1204920" y="4587840"/>
            <a:ext cx="6645240" cy="870840"/>
            <a:chOff x="1204920" y="4587840"/>
            <a:chExt cx="6645240" cy="870840"/>
          </a:xfrm>
        </p:grpSpPr>
        <p:grpSp>
          <p:nvGrpSpPr>
            <p:cNvPr id="678" name=""/>
            <p:cNvGrpSpPr/>
            <p:nvPr/>
          </p:nvGrpSpPr>
          <p:grpSpPr>
            <a:xfrm>
              <a:off x="1204920" y="4587840"/>
              <a:ext cx="3318480" cy="870840"/>
              <a:chOff x="1204920" y="4587840"/>
              <a:chExt cx="3318480" cy="870840"/>
            </a:xfrm>
          </p:grpSpPr>
          <p:sp>
            <p:nvSpPr>
              <p:cNvPr id="679" name=""/>
              <p:cNvSpPr/>
              <p:nvPr/>
            </p:nvSpPr>
            <p:spPr>
              <a:xfrm>
                <a:off x="1204920" y="4587840"/>
                <a:ext cx="662760" cy="870840"/>
              </a:xfrm>
              <a:custGeom>
                <a:avLst/>
                <a:gdLst/>
                <a:ahLst/>
                <a:rect l="l" t="t" r="r" b="b"/>
                <a:pathLst>
                  <a:path w="181" h="499">
                    <a:moveTo>
                      <a:pt x="0" y="499"/>
                    </a:moveTo>
                    <a:lnTo>
                      <a:pt x="0" y="0"/>
                    </a:lnTo>
                    <a:lnTo>
                      <a:pt x="90" y="0"/>
                    </a:lnTo>
                    <a:lnTo>
                      <a:pt x="90" y="499"/>
                    </a:lnTo>
                    <a:lnTo>
                      <a:pt x="181" y="499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1867680" y="4587840"/>
                <a:ext cx="662760" cy="870840"/>
              </a:xfrm>
              <a:custGeom>
                <a:avLst/>
                <a:gdLst/>
                <a:ahLst/>
                <a:rect l="l" t="t" r="r" b="b"/>
                <a:pathLst>
                  <a:path w="181" h="499">
                    <a:moveTo>
                      <a:pt x="0" y="499"/>
                    </a:moveTo>
                    <a:lnTo>
                      <a:pt x="0" y="0"/>
                    </a:lnTo>
                    <a:lnTo>
                      <a:pt x="90" y="0"/>
                    </a:lnTo>
                    <a:lnTo>
                      <a:pt x="90" y="499"/>
                    </a:lnTo>
                    <a:lnTo>
                      <a:pt x="181" y="499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530440" y="4587840"/>
                <a:ext cx="663480" cy="870840"/>
              </a:xfrm>
              <a:custGeom>
                <a:avLst/>
                <a:gdLst/>
                <a:ahLst/>
                <a:rect l="l" t="t" r="r" b="b"/>
                <a:pathLst>
                  <a:path w="181" h="499">
                    <a:moveTo>
                      <a:pt x="0" y="499"/>
                    </a:moveTo>
                    <a:lnTo>
                      <a:pt x="0" y="0"/>
                    </a:lnTo>
                    <a:lnTo>
                      <a:pt x="90" y="0"/>
                    </a:lnTo>
                    <a:lnTo>
                      <a:pt x="90" y="499"/>
                    </a:lnTo>
                    <a:lnTo>
                      <a:pt x="181" y="499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3197520" y="4587840"/>
                <a:ext cx="662760" cy="870840"/>
              </a:xfrm>
              <a:custGeom>
                <a:avLst/>
                <a:gdLst/>
                <a:ahLst/>
                <a:rect l="l" t="t" r="r" b="b"/>
                <a:pathLst>
                  <a:path w="181" h="499">
                    <a:moveTo>
                      <a:pt x="0" y="499"/>
                    </a:moveTo>
                    <a:lnTo>
                      <a:pt x="0" y="0"/>
                    </a:lnTo>
                    <a:lnTo>
                      <a:pt x="90" y="0"/>
                    </a:lnTo>
                    <a:lnTo>
                      <a:pt x="90" y="499"/>
                    </a:lnTo>
                    <a:lnTo>
                      <a:pt x="181" y="499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3860640" y="4587840"/>
                <a:ext cx="662760" cy="870840"/>
              </a:xfrm>
              <a:custGeom>
                <a:avLst/>
                <a:gdLst/>
                <a:ahLst/>
                <a:rect l="l" t="t" r="r" b="b"/>
                <a:pathLst>
                  <a:path w="181" h="499">
                    <a:moveTo>
                      <a:pt x="0" y="499"/>
                    </a:moveTo>
                    <a:lnTo>
                      <a:pt x="0" y="0"/>
                    </a:lnTo>
                    <a:lnTo>
                      <a:pt x="90" y="0"/>
                    </a:lnTo>
                    <a:lnTo>
                      <a:pt x="90" y="499"/>
                    </a:lnTo>
                    <a:lnTo>
                      <a:pt x="181" y="499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4" name=""/>
            <p:cNvGrpSpPr/>
            <p:nvPr/>
          </p:nvGrpSpPr>
          <p:grpSpPr>
            <a:xfrm>
              <a:off x="4531680" y="4587840"/>
              <a:ext cx="3318480" cy="870840"/>
              <a:chOff x="4531680" y="4587840"/>
              <a:chExt cx="3318480" cy="870840"/>
            </a:xfrm>
          </p:grpSpPr>
          <p:sp>
            <p:nvSpPr>
              <p:cNvPr id="685" name=""/>
              <p:cNvSpPr/>
              <p:nvPr/>
            </p:nvSpPr>
            <p:spPr>
              <a:xfrm>
                <a:off x="4531680" y="4587840"/>
                <a:ext cx="662760" cy="870840"/>
              </a:xfrm>
              <a:custGeom>
                <a:avLst/>
                <a:gdLst/>
                <a:ahLst/>
                <a:rect l="l" t="t" r="r" b="b"/>
                <a:pathLst>
                  <a:path w="181" h="499">
                    <a:moveTo>
                      <a:pt x="0" y="499"/>
                    </a:moveTo>
                    <a:lnTo>
                      <a:pt x="0" y="0"/>
                    </a:lnTo>
                    <a:lnTo>
                      <a:pt x="90" y="0"/>
                    </a:lnTo>
                    <a:lnTo>
                      <a:pt x="90" y="499"/>
                    </a:lnTo>
                    <a:lnTo>
                      <a:pt x="181" y="499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194440" y="4587840"/>
                <a:ext cx="662760" cy="870840"/>
              </a:xfrm>
              <a:custGeom>
                <a:avLst/>
                <a:gdLst/>
                <a:ahLst/>
                <a:rect l="l" t="t" r="r" b="b"/>
                <a:pathLst>
                  <a:path w="181" h="499">
                    <a:moveTo>
                      <a:pt x="0" y="499"/>
                    </a:moveTo>
                    <a:lnTo>
                      <a:pt x="0" y="0"/>
                    </a:lnTo>
                    <a:lnTo>
                      <a:pt x="90" y="0"/>
                    </a:lnTo>
                    <a:lnTo>
                      <a:pt x="90" y="499"/>
                    </a:lnTo>
                    <a:lnTo>
                      <a:pt x="181" y="499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5857200" y="4587840"/>
                <a:ext cx="663480" cy="870840"/>
              </a:xfrm>
              <a:custGeom>
                <a:avLst/>
                <a:gdLst/>
                <a:ahLst/>
                <a:rect l="l" t="t" r="r" b="b"/>
                <a:pathLst>
                  <a:path w="181" h="499">
                    <a:moveTo>
                      <a:pt x="0" y="499"/>
                    </a:moveTo>
                    <a:lnTo>
                      <a:pt x="0" y="0"/>
                    </a:lnTo>
                    <a:lnTo>
                      <a:pt x="90" y="0"/>
                    </a:lnTo>
                    <a:lnTo>
                      <a:pt x="90" y="499"/>
                    </a:lnTo>
                    <a:lnTo>
                      <a:pt x="181" y="499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6524280" y="4587840"/>
                <a:ext cx="662760" cy="870840"/>
              </a:xfrm>
              <a:custGeom>
                <a:avLst/>
                <a:gdLst/>
                <a:ahLst/>
                <a:rect l="l" t="t" r="r" b="b"/>
                <a:pathLst>
                  <a:path w="181" h="499">
                    <a:moveTo>
                      <a:pt x="0" y="499"/>
                    </a:moveTo>
                    <a:lnTo>
                      <a:pt x="0" y="0"/>
                    </a:lnTo>
                    <a:lnTo>
                      <a:pt x="90" y="0"/>
                    </a:lnTo>
                    <a:lnTo>
                      <a:pt x="90" y="499"/>
                    </a:lnTo>
                    <a:lnTo>
                      <a:pt x="181" y="499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187400" y="4587840"/>
                <a:ext cx="662760" cy="870840"/>
              </a:xfrm>
              <a:custGeom>
                <a:avLst/>
                <a:gdLst/>
                <a:ahLst/>
                <a:rect l="l" t="t" r="r" b="b"/>
                <a:pathLst>
                  <a:path w="181" h="499">
                    <a:moveTo>
                      <a:pt x="0" y="499"/>
                    </a:moveTo>
                    <a:lnTo>
                      <a:pt x="0" y="0"/>
                    </a:lnTo>
                    <a:lnTo>
                      <a:pt x="90" y="0"/>
                    </a:lnTo>
                    <a:lnTo>
                      <a:pt x="90" y="499"/>
                    </a:lnTo>
                    <a:lnTo>
                      <a:pt x="181" y="499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0" name=""/>
          <p:cNvSpPr/>
          <p:nvPr/>
        </p:nvSpPr>
        <p:spPr>
          <a:xfrm>
            <a:off x="457200" y="2133720"/>
            <a:ext cx="8372520" cy="871560"/>
          </a:xfrm>
          <a:custGeom>
            <a:avLst/>
            <a:gdLst/>
            <a:ahLst/>
            <a:rect l="l" t="t" r="r" b="b"/>
            <a:pathLst>
              <a:path w="2858" h="499">
                <a:moveTo>
                  <a:pt x="0" y="499"/>
                </a:moveTo>
                <a:lnTo>
                  <a:pt x="273" y="499"/>
                </a:lnTo>
                <a:lnTo>
                  <a:pt x="273" y="0"/>
                </a:lnTo>
                <a:lnTo>
                  <a:pt x="726" y="0"/>
                </a:lnTo>
                <a:lnTo>
                  <a:pt x="726" y="499"/>
                </a:lnTo>
                <a:lnTo>
                  <a:pt x="1180" y="499"/>
                </a:lnTo>
                <a:lnTo>
                  <a:pt x="1180" y="0"/>
                </a:lnTo>
                <a:lnTo>
                  <a:pt x="1633" y="0"/>
                </a:lnTo>
                <a:lnTo>
                  <a:pt x="1633" y="499"/>
                </a:lnTo>
                <a:lnTo>
                  <a:pt x="2042" y="499"/>
                </a:lnTo>
                <a:lnTo>
                  <a:pt x="2042" y="0"/>
                </a:lnTo>
                <a:lnTo>
                  <a:pt x="2495" y="0"/>
                </a:lnTo>
                <a:lnTo>
                  <a:pt x="2495" y="499"/>
                </a:lnTo>
                <a:lnTo>
                  <a:pt x="2858" y="49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1204920" y="4587840"/>
            <a:ext cx="6645240" cy="870840"/>
            <a:chOff x="1204920" y="4587840"/>
            <a:chExt cx="6645240" cy="870840"/>
          </a:xfrm>
        </p:grpSpPr>
        <p:grpSp>
          <p:nvGrpSpPr>
            <p:cNvPr id="692" name=""/>
            <p:cNvGrpSpPr/>
            <p:nvPr/>
          </p:nvGrpSpPr>
          <p:grpSpPr>
            <a:xfrm>
              <a:off x="1204920" y="4587840"/>
              <a:ext cx="3318480" cy="870840"/>
              <a:chOff x="1204920" y="4587840"/>
              <a:chExt cx="3318480" cy="870840"/>
            </a:xfrm>
          </p:grpSpPr>
          <p:sp>
            <p:nvSpPr>
              <p:cNvPr id="693" name=""/>
              <p:cNvSpPr/>
              <p:nvPr/>
            </p:nvSpPr>
            <p:spPr>
              <a:xfrm>
                <a:off x="1204920" y="4587840"/>
                <a:ext cx="662760" cy="870840"/>
              </a:xfrm>
              <a:custGeom>
                <a:avLst/>
                <a:gdLst/>
                <a:ahLst/>
                <a:rect l="l" t="t" r="r" b="b"/>
                <a:pathLst>
                  <a:path w="181" h="499">
                    <a:moveTo>
                      <a:pt x="0" y="499"/>
                    </a:moveTo>
                    <a:lnTo>
                      <a:pt x="0" y="0"/>
                    </a:lnTo>
                    <a:lnTo>
                      <a:pt x="90" y="0"/>
                    </a:lnTo>
                    <a:lnTo>
                      <a:pt x="90" y="499"/>
                    </a:lnTo>
                    <a:lnTo>
                      <a:pt x="181" y="499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1867680" y="4587840"/>
                <a:ext cx="662760" cy="870840"/>
              </a:xfrm>
              <a:custGeom>
                <a:avLst/>
                <a:gdLst/>
                <a:ahLst/>
                <a:rect l="l" t="t" r="r" b="b"/>
                <a:pathLst>
                  <a:path w="181" h="499">
                    <a:moveTo>
                      <a:pt x="0" y="499"/>
                    </a:moveTo>
                    <a:lnTo>
                      <a:pt x="0" y="0"/>
                    </a:lnTo>
                    <a:lnTo>
                      <a:pt x="90" y="0"/>
                    </a:lnTo>
                    <a:lnTo>
                      <a:pt x="90" y="499"/>
                    </a:lnTo>
                    <a:lnTo>
                      <a:pt x="181" y="499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2530440" y="4587840"/>
                <a:ext cx="663480" cy="870840"/>
              </a:xfrm>
              <a:custGeom>
                <a:avLst/>
                <a:gdLst/>
                <a:ahLst/>
                <a:rect l="l" t="t" r="r" b="b"/>
                <a:pathLst>
                  <a:path w="181" h="499">
                    <a:moveTo>
                      <a:pt x="0" y="499"/>
                    </a:moveTo>
                    <a:lnTo>
                      <a:pt x="0" y="0"/>
                    </a:lnTo>
                    <a:lnTo>
                      <a:pt x="90" y="0"/>
                    </a:lnTo>
                    <a:lnTo>
                      <a:pt x="90" y="499"/>
                    </a:lnTo>
                    <a:lnTo>
                      <a:pt x="181" y="499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197520" y="4587840"/>
                <a:ext cx="662760" cy="870840"/>
              </a:xfrm>
              <a:custGeom>
                <a:avLst/>
                <a:gdLst/>
                <a:ahLst/>
                <a:rect l="l" t="t" r="r" b="b"/>
                <a:pathLst>
                  <a:path w="181" h="499">
                    <a:moveTo>
                      <a:pt x="0" y="499"/>
                    </a:moveTo>
                    <a:lnTo>
                      <a:pt x="0" y="0"/>
                    </a:lnTo>
                    <a:lnTo>
                      <a:pt x="90" y="0"/>
                    </a:lnTo>
                    <a:lnTo>
                      <a:pt x="90" y="499"/>
                    </a:lnTo>
                    <a:lnTo>
                      <a:pt x="181" y="499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3860640" y="4587840"/>
                <a:ext cx="662760" cy="870840"/>
              </a:xfrm>
              <a:custGeom>
                <a:avLst/>
                <a:gdLst/>
                <a:ahLst/>
                <a:rect l="l" t="t" r="r" b="b"/>
                <a:pathLst>
                  <a:path w="181" h="499">
                    <a:moveTo>
                      <a:pt x="0" y="499"/>
                    </a:moveTo>
                    <a:lnTo>
                      <a:pt x="0" y="0"/>
                    </a:lnTo>
                    <a:lnTo>
                      <a:pt x="90" y="0"/>
                    </a:lnTo>
                    <a:lnTo>
                      <a:pt x="90" y="499"/>
                    </a:lnTo>
                    <a:lnTo>
                      <a:pt x="181" y="499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8" name=""/>
            <p:cNvGrpSpPr/>
            <p:nvPr/>
          </p:nvGrpSpPr>
          <p:grpSpPr>
            <a:xfrm>
              <a:off x="4531680" y="4587840"/>
              <a:ext cx="3318480" cy="870840"/>
              <a:chOff x="4531680" y="4587840"/>
              <a:chExt cx="3318480" cy="870840"/>
            </a:xfrm>
          </p:grpSpPr>
          <p:sp>
            <p:nvSpPr>
              <p:cNvPr id="699" name=""/>
              <p:cNvSpPr/>
              <p:nvPr/>
            </p:nvSpPr>
            <p:spPr>
              <a:xfrm>
                <a:off x="4531680" y="4587840"/>
                <a:ext cx="662760" cy="870840"/>
              </a:xfrm>
              <a:custGeom>
                <a:avLst/>
                <a:gdLst/>
                <a:ahLst/>
                <a:rect l="l" t="t" r="r" b="b"/>
                <a:pathLst>
                  <a:path w="181" h="499">
                    <a:moveTo>
                      <a:pt x="0" y="499"/>
                    </a:moveTo>
                    <a:lnTo>
                      <a:pt x="0" y="0"/>
                    </a:lnTo>
                    <a:lnTo>
                      <a:pt x="90" y="0"/>
                    </a:lnTo>
                    <a:lnTo>
                      <a:pt x="90" y="499"/>
                    </a:lnTo>
                    <a:lnTo>
                      <a:pt x="181" y="499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194440" y="4587840"/>
                <a:ext cx="662760" cy="870840"/>
              </a:xfrm>
              <a:custGeom>
                <a:avLst/>
                <a:gdLst/>
                <a:ahLst/>
                <a:rect l="l" t="t" r="r" b="b"/>
                <a:pathLst>
                  <a:path w="181" h="499">
                    <a:moveTo>
                      <a:pt x="0" y="499"/>
                    </a:moveTo>
                    <a:lnTo>
                      <a:pt x="0" y="0"/>
                    </a:lnTo>
                    <a:lnTo>
                      <a:pt x="90" y="0"/>
                    </a:lnTo>
                    <a:lnTo>
                      <a:pt x="90" y="499"/>
                    </a:lnTo>
                    <a:lnTo>
                      <a:pt x="181" y="499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857200" y="4587840"/>
                <a:ext cx="663480" cy="870840"/>
              </a:xfrm>
              <a:custGeom>
                <a:avLst/>
                <a:gdLst/>
                <a:ahLst/>
                <a:rect l="l" t="t" r="r" b="b"/>
                <a:pathLst>
                  <a:path w="181" h="499">
                    <a:moveTo>
                      <a:pt x="0" y="499"/>
                    </a:moveTo>
                    <a:lnTo>
                      <a:pt x="0" y="0"/>
                    </a:lnTo>
                    <a:lnTo>
                      <a:pt x="90" y="0"/>
                    </a:lnTo>
                    <a:lnTo>
                      <a:pt x="90" y="499"/>
                    </a:lnTo>
                    <a:lnTo>
                      <a:pt x="181" y="499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524280" y="4587840"/>
                <a:ext cx="662760" cy="870840"/>
              </a:xfrm>
              <a:custGeom>
                <a:avLst/>
                <a:gdLst/>
                <a:ahLst/>
                <a:rect l="l" t="t" r="r" b="b"/>
                <a:pathLst>
                  <a:path w="181" h="499">
                    <a:moveTo>
                      <a:pt x="0" y="499"/>
                    </a:moveTo>
                    <a:lnTo>
                      <a:pt x="0" y="0"/>
                    </a:lnTo>
                    <a:lnTo>
                      <a:pt x="90" y="0"/>
                    </a:lnTo>
                    <a:lnTo>
                      <a:pt x="90" y="499"/>
                    </a:lnTo>
                    <a:lnTo>
                      <a:pt x="181" y="499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187400" y="4587840"/>
                <a:ext cx="662760" cy="870840"/>
              </a:xfrm>
              <a:custGeom>
                <a:avLst/>
                <a:gdLst/>
                <a:ahLst/>
                <a:rect l="l" t="t" r="r" b="b"/>
                <a:pathLst>
                  <a:path w="181" h="499">
                    <a:moveTo>
                      <a:pt x="0" y="499"/>
                    </a:moveTo>
                    <a:lnTo>
                      <a:pt x="0" y="0"/>
                    </a:lnTo>
                    <a:lnTo>
                      <a:pt x="90" y="0"/>
                    </a:lnTo>
                    <a:lnTo>
                      <a:pt x="90" y="499"/>
                    </a:lnTo>
                    <a:lnTo>
                      <a:pt x="181" y="499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04" name=""/>
          <p:cNvSpPr/>
          <p:nvPr/>
        </p:nvSpPr>
        <p:spPr>
          <a:xfrm>
            <a:off x="247680" y="14749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250920" y="393372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-1346040" y="3068640"/>
            <a:ext cx="10742400" cy="1081080"/>
            <a:chOff x="-1346040" y="3068640"/>
            <a:chExt cx="10742400" cy="1081080"/>
          </a:xfrm>
        </p:grpSpPr>
        <p:sp>
          <p:nvSpPr>
            <p:cNvPr id="707" name=""/>
            <p:cNvSpPr/>
            <p:nvPr/>
          </p:nvSpPr>
          <p:spPr>
            <a:xfrm>
              <a:off x="1246320" y="3133800"/>
              <a:ext cx="1339560" cy="395280"/>
            </a:xfrm>
            <a:custGeom>
              <a:avLst/>
              <a:gdLst/>
              <a:ahLst/>
              <a:rect l="l" t="t" r="r" b="b"/>
              <a:pathLst>
                <a:path w="2268" h="1134">
                  <a:moveTo>
                    <a:pt x="0" y="1134"/>
                  </a:moveTo>
                  <a:cubicBezTo>
                    <a:pt x="378" y="567"/>
                    <a:pt x="756" y="0"/>
                    <a:pt x="1134" y="0"/>
                  </a:cubicBezTo>
                  <a:cubicBezTo>
                    <a:pt x="1512" y="0"/>
                    <a:pt x="1890" y="567"/>
                    <a:pt x="2268" y="1134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 flipV="1">
              <a:off x="2584440" y="3529080"/>
              <a:ext cx="1339920" cy="395280"/>
            </a:xfrm>
            <a:custGeom>
              <a:avLst/>
              <a:gdLst/>
              <a:ahLst/>
              <a:rect l="l" t="t" r="r" b="b"/>
              <a:pathLst>
                <a:path w="2268" h="1134">
                  <a:moveTo>
                    <a:pt x="0" y="1134"/>
                  </a:moveTo>
                  <a:cubicBezTo>
                    <a:pt x="378" y="567"/>
                    <a:pt x="756" y="0"/>
                    <a:pt x="1134" y="0"/>
                  </a:cubicBezTo>
                  <a:cubicBezTo>
                    <a:pt x="1512" y="0"/>
                    <a:pt x="1890" y="567"/>
                    <a:pt x="2268" y="1134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924360" y="3141720"/>
              <a:ext cx="1339920" cy="395280"/>
            </a:xfrm>
            <a:custGeom>
              <a:avLst/>
              <a:gdLst/>
              <a:ahLst/>
              <a:rect l="l" t="t" r="r" b="b"/>
              <a:pathLst>
                <a:path w="2268" h="1134">
                  <a:moveTo>
                    <a:pt x="0" y="1134"/>
                  </a:moveTo>
                  <a:cubicBezTo>
                    <a:pt x="378" y="567"/>
                    <a:pt x="756" y="0"/>
                    <a:pt x="1134" y="0"/>
                  </a:cubicBezTo>
                  <a:cubicBezTo>
                    <a:pt x="1512" y="0"/>
                    <a:pt x="1890" y="567"/>
                    <a:pt x="2268" y="1134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 flipV="1">
              <a:off x="5262480" y="3537000"/>
              <a:ext cx="1339920" cy="395280"/>
            </a:xfrm>
            <a:custGeom>
              <a:avLst/>
              <a:gdLst/>
              <a:ahLst/>
              <a:rect l="l" t="t" r="r" b="b"/>
              <a:pathLst>
                <a:path w="2268" h="1134">
                  <a:moveTo>
                    <a:pt x="0" y="1134"/>
                  </a:moveTo>
                  <a:cubicBezTo>
                    <a:pt x="378" y="567"/>
                    <a:pt x="756" y="0"/>
                    <a:pt x="1134" y="0"/>
                  </a:cubicBezTo>
                  <a:cubicBezTo>
                    <a:pt x="1512" y="0"/>
                    <a:pt x="1890" y="567"/>
                    <a:pt x="2268" y="1134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588000" y="3143160"/>
              <a:ext cx="1339920" cy="395280"/>
            </a:xfrm>
            <a:custGeom>
              <a:avLst/>
              <a:gdLst/>
              <a:ahLst/>
              <a:rect l="l" t="t" r="r" b="b"/>
              <a:pathLst>
                <a:path w="2268" h="1134">
                  <a:moveTo>
                    <a:pt x="0" y="1134"/>
                  </a:moveTo>
                  <a:cubicBezTo>
                    <a:pt x="378" y="567"/>
                    <a:pt x="756" y="0"/>
                    <a:pt x="1134" y="0"/>
                  </a:cubicBezTo>
                  <a:cubicBezTo>
                    <a:pt x="1512" y="0"/>
                    <a:pt x="1890" y="567"/>
                    <a:pt x="2268" y="1134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 flipV="1">
              <a:off x="7926480" y="3538440"/>
              <a:ext cx="1339920" cy="395280"/>
            </a:xfrm>
            <a:custGeom>
              <a:avLst/>
              <a:gdLst/>
              <a:ahLst/>
              <a:rect l="l" t="t" r="r" b="b"/>
              <a:pathLst>
                <a:path w="2268" h="1134">
                  <a:moveTo>
                    <a:pt x="0" y="1134"/>
                  </a:moveTo>
                  <a:cubicBezTo>
                    <a:pt x="378" y="567"/>
                    <a:pt x="756" y="0"/>
                    <a:pt x="1134" y="0"/>
                  </a:cubicBezTo>
                  <a:cubicBezTo>
                    <a:pt x="1512" y="0"/>
                    <a:pt x="1890" y="567"/>
                    <a:pt x="2268" y="1134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8532720" y="3284640"/>
              <a:ext cx="863640" cy="86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4" name=""/>
            <p:cNvGrpSpPr/>
            <p:nvPr/>
          </p:nvGrpSpPr>
          <p:grpSpPr>
            <a:xfrm>
              <a:off x="-1346040" y="3068640"/>
              <a:ext cx="2678040" cy="790560"/>
              <a:chOff x="-1346040" y="3068640"/>
              <a:chExt cx="2678040" cy="790560"/>
            </a:xfrm>
          </p:grpSpPr>
          <p:sp>
            <p:nvSpPr>
              <p:cNvPr id="715" name=""/>
              <p:cNvSpPr/>
              <p:nvPr/>
            </p:nvSpPr>
            <p:spPr>
              <a:xfrm>
                <a:off x="-1346040" y="3068640"/>
                <a:ext cx="1339560" cy="395280"/>
              </a:xfrm>
              <a:custGeom>
                <a:avLst/>
                <a:gdLst/>
                <a:ahLst/>
                <a:rect l="l" t="t" r="r" b="b"/>
                <a:pathLst>
                  <a:path w="2268" h="1134">
                    <a:moveTo>
                      <a:pt x="0" y="1134"/>
                    </a:moveTo>
                    <a:cubicBezTo>
                      <a:pt x="378" y="567"/>
                      <a:pt x="756" y="0"/>
                      <a:pt x="1134" y="0"/>
                    </a:cubicBezTo>
                    <a:cubicBezTo>
                      <a:pt x="1512" y="0"/>
                      <a:pt x="1890" y="567"/>
                      <a:pt x="2268" y="1134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flipV="1">
                <a:off x="-7560" y="3463920"/>
                <a:ext cx="1339920" cy="395280"/>
              </a:xfrm>
              <a:custGeom>
                <a:avLst/>
                <a:gdLst/>
                <a:ahLst/>
                <a:rect l="l" t="t" r="r" b="b"/>
                <a:pathLst>
                  <a:path w="2268" h="1134">
                    <a:moveTo>
                      <a:pt x="0" y="1134"/>
                    </a:moveTo>
                    <a:cubicBezTo>
                      <a:pt x="378" y="567"/>
                      <a:pt x="756" y="0"/>
                      <a:pt x="1134" y="0"/>
                    </a:cubicBezTo>
                    <a:cubicBezTo>
                      <a:pt x="1512" y="0"/>
                      <a:pt x="1890" y="567"/>
                      <a:pt x="2268" y="1134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7" name=""/>
            <p:cNvSpPr/>
            <p:nvPr/>
          </p:nvSpPr>
          <p:spPr>
            <a:xfrm>
              <a:off x="-828720" y="3357720"/>
              <a:ext cx="1513080" cy="71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8" name=""/>
          <p:cNvSpPr/>
          <p:nvPr/>
        </p:nvSpPr>
        <p:spPr>
          <a:xfrm>
            <a:off x="457200" y="2133720"/>
            <a:ext cx="8372520" cy="871560"/>
          </a:xfrm>
          <a:custGeom>
            <a:avLst/>
            <a:gdLst/>
            <a:ahLst/>
            <a:rect l="l" t="t" r="r" b="b"/>
            <a:pathLst>
              <a:path w="2858" h="499">
                <a:moveTo>
                  <a:pt x="0" y="499"/>
                </a:moveTo>
                <a:lnTo>
                  <a:pt x="273" y="499"/>
                </a:lnTo>
                <a:lnTo>
                  <a:pt x="273" y="0"/>
                </a:lnTo>
                <a:lnTo>
                  <a:pt x="726" y="0"/>
                </a:lnTo>
                <a:lnTo>
                  <a:pt x="726" y="499"/>
                </a:lnTo>
                <a:lnTo>
                  <a:pt x="1180" y="499"/>
                </a:lnTo>
                <a:lnTo>
                  <a:pt x="1180" y="0"/>
                </a:lnTo>
                <a:lnTo>
                  <a:pt x="1633" y="0"/>
                </a:lnTo>
                <a:lnTo>
                  <a:pt x="1633" y="499"/>
                </a:lnTo>
                <a:lnTo>
                  <a:pt x="2042" y="499"/>
                </a:lnTo>
                <a:lnTo>
                  <a:pt x="2042" y="0"/>
                </a:lnTo>
                <a:lnTo>
                  <a:pt x="2495" y="0"/>
                </a:lnTo>
                <a:lnTo>
                  <a:pt x="2495" y="499"/>
                </a:lnTo>
                <a:lnTo>
                  <a:pt x="2858" y="499"/>
                </a:lnTo>
              </a:path>
            </a:pathLst>
          </a:custGeom>
          <a:noFill/>
          <a:ln w="1908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1.48148E-006 L -3.05556E-006 0.14167 E">
                                      <p:cBhvr>
                                        <p:cTn id="324" dur="2000" fill="hold"/>
                                        <p:tgtEl>
                                          <p:spTgt spid="7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7037E-007 L 2.5E-006 0.15231 E">
                                      <p:cBhvr>
                                        <p:cTn id="340" dur="2000" fill="hold"/>
                                        <p:tgtEl>
                                          <p:spTgt spid="6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/>
          <p:nvPr/>
        </p:nvSpPr>
        <p:spPr>
          <a:xfrm>
            <a:off x="324000" y="333360"/>
            <a:ext cx="50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um transfer rate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24000" y="105264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rier frequency is half of digital sampling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179280" y="357336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f carrier frequency is any less, some information will be missed - err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50920" y="5013360"/>
            <a:ext cx="85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e carrier frequency can be anywhere in the EM spectrum – but must be at or above minimum for sign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3" name=""/>
          <p:cNvGrpSpPr/>
          <p:nvPr/>
        </p:nvGrpSpPr>
        <p:grpSpPr>
          <a:xfrm>
            <a:off x="611280" y="1699920"/>
            <a:ext cx="7991280" cy="1502640"/>
            <a:chOff x="611280" y="1699920"/>
            <a:chExt cx="7991280" cy="1502640"/>
          </a:xfrm>
        </p:grpSpPr>
        <p:sp>
          <p:nvSpPr>
            <p:cNvPr id="724" name=""/>
            <p:cNvSpPr/>
            <p:nvPr/>
          </p:nvSpPr>
          <p:spPr>
            <a:xfrm>
              <a:off x="611280" y="2133720"/>
              <a:ext cx="79912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8000"/>
                  </a:solidFill>
                  <a:latin typeface="Arial"/>
                </a:rPr>
                <a:t>Uses peak = 1 and trough = 0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</a:t>
              </a:r>
              <a:r>
                <a:rPr b="0" lang="en-US" sz="32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8000"/>
                  </a:solidFill>
                  <a:latin typeface="Arial"/>
                </a:rPr>
                <a:t>two bits transmitted per wave oscillat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 flipV="1">
              <a:off x="4356000" y="1699920"/>
              <a:ext cx="60480" cy="57636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/>
          <p:nvPr/>
        </p:nvSpPr>
        <p:spPr>
          <a:xfrm>
            <a:off x="250920" y="260280"/>
            <a:ext cx="864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ll is well until the carrier frequency increases compared to sig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250920" y="1409760"/>
            <a:ext cx="85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– may not fit an integer number of half wavelengths into digital “high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95280" y="5530680"/>
            <a:ext cx="837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can make it end on zero by including higher carrier frequ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2050560" y="2778120"/>
            <a:ext cx="4682160" cy="1871640"/>
            <a:chOff x="2050560" y="2778120"/>
            <a:chExt cx="4682160" cy="1871640"/>
          </a:xfrm>
        </p:grpSpPr>
        <p:sp>
          <p:nvSpPr>
            <p:cNvPr id="730" name=""/>
            <p:cNvSpPr/>
            <p:nvPr/>
          </p:nvSpPr>
          <p:spPr>
            <a:xfrm flipH="1">
              <a:off x="2050560" y="4040280"/>
              <a:ext cx="57636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1" name=""/>
            <p:cNvGrpSpPr/>
            <p:nvPr/>
          </p:nvGrpSpPr>
          <p:grpSpPr>
            <a:xfrm>
              <a:off x="2627280" y="3713040"/>
              <a:ext cx="720360" cy="649440"/>
              <a:chOff x="2627280" y="3713040"/>
              <a:chExt cx="720360" cy="649440"/>
            </a:xfrm>
          </p:grpSpPr>
          <p:grpSp>
            <p:nvGrpSpPr>
              <p:cNvPr id="732" name=""/>
              <p:cNvGrpSpPr/>
              <p:nvPr/>
            </p:nvGrpSpPr>
            <p:grpSpPr>
              <a:xfrm>
                <a:off x="2627280" y="3713040"/>
                <a:ext cx="240120" cy="649440"/>
                <a:chOff x="2627280" y="3713040"/>
                <a:chExt cx="240120" cy="649440"/>
              </a:xfrm>
            </p:grpSpPr>
            <p:sp>
              <p:nvSpPr>
                <p:cNvPr id="733" name=""/>
                <p:cNvSpPr/>
                <p:nvPr/>
              </p:nvSpPr>
              <p:spPr>
                <a:xfrm>
                  <a:off x="2627280" y="3713040"/>
                  <a:ext cx="120240" cy="324720"/>
                </a:xfrm>
                <a:custGeom>
                  <a:avLst/>
                  <a:gdLst/>
                  <a:ahLst/>
                  <a:rect l="l" t="t" r="r" b="b"/>
                  <a:pathLst>
                    <a:path w="2268" h="1134">
                      <a:moveTo>
                        <a:pt x="0" y="1134"/>
                      </a:moveTo>
                      <a:cubicBezTo>
                        <a:pt x="378" y="567"/>
                        <a:pt x="756" y="0"/>
                        <a:pt x="1134" y="0"/>
                      </a:cubicBezTo>
                      <a:cubicBezTo>
                        <a:pt x="1512" y="0"/>
                        <a:pt x="1890" y="567"/>
                        <a:pt x="2268" y="1134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 flipV="1">
                  <a:off x="2747160" y="4037760"/>
                  <a:ext cx="120240" cy="324720"/>
                </a:xfrm>
                <a:custGeom>
                  <a:avLst/>
                  <a:gdLst/>
                  <a:ahLst/>
                  <a:rect l="l" t="t" r="r" b="b"/>
                  <a:pathLst>
                    <a:path w="2268" h="1134">
                      <a:moveTo>
                        <a:pt x="0" y="1134"/>
                      </a:moveTo>
                      <a:cubicBezTo>
                        <a:pt x="378" y="567"/>
                        <a:pt x="756" y="0"/>
                        <a:pt x="1134" y="0"/>
                      </a:cubicBezTo>
                      <a:cubicBezTo>
                        <a:pt x="1512" y="0"/>
                        <a:pt x="1890" y="567"/>
                        <a:pt x="2268" y="1134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5" name=""/>
              <p:cNvGrpSpPr/>
              <p:nvPr/>
            </p:nvGrpSpPr>
            <p:grpSpPr>
              <a:xfrm>
                <a:off x="2867400" y="3713040"/>
                <a:ext cx="240120" cy="649440"/>
                <a:chOff x="2867400" y="3713040"/>
                <a:chExt cx="240120" cy="649440"/>
              </a:xfrm>
            </p:grpSpPr>
            <p:sp>
              <p:nvSpPr>
                <p:cNvPr id="736" name=""/>
                <p:cNvSpPr/>
                <p:nvPr/>
              </p:nvSpPr>
              <p:spPr>
                <a:xfrm>
                  <a:off x="2867400" y="3713040"/>
                  <a:ext cx="120240" cy="324720"/>
                </a:xfrm>
                <a:custGeom>
                  <a:avLst/>
                  <a:gdLst/>
                  <a:ahLst/>
                  <a:rect l="l" t="t" r="r" b="b"/>
                  <a:pathLst>
                    <a:path w="2268" h="1134">
                      <a:moveTo>
                        <a:pt x="0" y="1134"/>
                      </a:moveTo>
                      <a:cubicBezTo>
                        <a:pt x="378" y="567"/>
                        <a:pt x="756" y="0"/>
                        <a:pt x="1134" y="0"/>
                      </a:cubicBezTo>
                      <a:cubicBezTo>
                        <a:pt x="1512" y="0"/>
                        <a:pt x="1890" y="567"/>
                        <a:pt x="2268" y="1134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 flipV="1">
                  <a:off x="2987280" y="4037760"/>
                  <a:ext cx="120240" cy="324720"/>
                </a:xfrm>
                <a:custGeom>
                  <a:avLst/>
                  <a:gdLst/>
                  <a:ahLst/>
                  <a:rect l="l" t="t" r="r" b="b"/>
                  <a:pathLst>
                    <a:path w="2268" h="1134">
                      <a:moveTo>
                        <a:pt x="0" y="1134"/>
                      </a:moveTo>
                      <a:cubicBezTo>
                        <a:pt x="378" y="567"/>
                        <a:pt x="756" y="0"/>
                        <a:pt x="1134" y="0"/>
                      </a:cubicBezTo>
                      <a:cubicBezTo>
                        <a:pt x="1512" y="0"/>
                        <a:pt x="1890" y="567"/>
                        <a:pt x="2268" y="1134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8" name=""/>
              <p:cNvGrpSpPr/>
              <p:nvPr/>
            </p:nvGrpSpPr>
            <p:grpSpPr>
              <a:xfrm>
                <a:off x="3107520" y="3713040"/>
                <a:ext cx="240120" cy="649440"/>
                <a:chOff x="3107520" y="3713040"/>
                <a:chExt cx="240120" cy="649440"/>
              </a:xfrm>
            </p:grpSpPr>
            <p:sp>
              <p:nvSpPr>
                <p:cNvPr id="739" name=""/>
                <p:cNvSpPr/>
                <p:nvPr/>
              </p:nvSpPr>
              <p:spPr>
                <a:xfrm>
                  <a:off x="3107520" y="3713040"/>
                  <a:ext cx="120240" cy="324720"/>
                </a:xfrm>
                <a:custGeom>
                  <a:avLst/>
                  <a:gdLst/>
                  <a:ahLst/>
                  <a:rect l="l" t="t" r="r" b="b"/>
                  <a:pathLst>
                    <a:path w="2268" h="1134">
                      <a:moveTo>
                        <a:pt x="0" y="1134"/>
                      </a:moveTo>
                      <a:cubicBezTo>
                        <a:pt x="378" y="567"/>
                        <a:pt x="756" y="0"/>
                        <a:pt x="1134" y="0"/>
                      </a:cubicBezTo>
                      <a:cubicBezTo>
                        <a:pt x="1512" y="0"/>
                        <a:pt x="1890" y="567"/>
                        <a:pt x="2268" y="1134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 flipV="1">
                  <a:off x="3227400" y="4037760"/>
                  <a:ext cx="120240" cy="324720"/>
                </a:xfrm>
                <a:custGeom>
                  <a:avLst/>
                  <a:gdLst/>
                  <a:ahLst/>
                  <a:rect l="l" t="t" r="r" b="b"/>
                  <a:pathLst>
                    <a:path w="2268" h="1134">
                      <a:moveTo>
                        <a:pt x="0" y="1134"/>
                      </a:moveTo>
                      <a:cubicBezTo>
                        <a:pt x="378" y="567"/>
                        <a:pt x="756" y="0"/>
                        <a:pt x="1134" y="0"/>
                      </a:cubicBezTo>
                      <a:cubicBezTo>
                        <a:pt x="1512" y="0"/>
                        <a:pt x="1890" y="567"/>
                        <a:pt x="2268" y="1134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41" name=""/>
            <p:cNvSpPr/>
            <p:nvPr/>
          </p:nvSpPr>
          <p:spPr>
            <a:xfrm>
              <a:off x="3276720" y="3641760"/>
              <a:ext cx="215640" cy="10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>
              <a:off x="3348000" y="4040280"/>
              <a:ext cx="7192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3" name=""/>
            <p:cNvGrpSpPr/>
            <p:nvPr/>
          </p:nvGrpSpPr>
          <p:grpSpPr>
            <a:xfrm>
              <a:off x="4067280" y="3713040"/>
              <a:ext cx="720360" cy="649440"/>
              <a:chOff x="4067280" y="3713040"/>
              <a:chExt cx="720360" cy="649440"/>
            </a:xfrm>
          </p:grpSpPr>
          <p:grpSp>
            <p:nvGrpSpPr>
              <p:cNvPr id="744" name=""/>
              <p:cNvGrpSpPr/>
              <p:nvPr/>
            </p:nvGrpSpPr>
            <p:grpSpPr>
              <a:xfrm>
                <a:off x="4067280" y="3713040"/>
                <a:ext cx="240120" cy="649440"/>
                <a:chOff x="4067280" y="3713040"/>
                <a:chExt cx="240120" cy="649440"/>
              </a:xfrm>
            </p:grpSpPr>
            <p:sp>
              <p:nvSpPr>
                <p:cNvPr id="745" name=""/>
                <p:cNvSpPr/>
                <p:nvPr/>
              </p:nvSpPr>
              <p:spPr>
                <a:xfrm>
                  <a:off x="4067280" y="3713040"/>
                  <a:ext cx="120240" cy="324720"/>
                </a:xfrm>
                <a:custGeom>
                  <a:avLst/>
                  <a:gdLst/>
                  <a:ahLst/>
                  <a:rect l="l" t="t" r="r" b="b"/>
                  <a:pathLst>
                    <a:path w="2268" h="1134">
                      <a:moveTo>
                        <a:pt x="0" y="1134"/>
                      </a:moveTo>
                      <a:cubicBezTo>
                        <a:pt x="378" y="567"/>
                        <a:pt x="756" y="0"/>
                        <a:pt x="1134" y="0"/>
                      </a:cubicBezTo>
                      <a:cubicBezTo>
                        <a:pt x="1512" y="0"/>
                        <a:pt x="1890" y="567"/>
                        <a:pt x="2268" y="1134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 flipV="1">
                  <a:off x="4187160" y="4037760"/>
                  <a:ext cx="120240" cy="324720"/>
                </a:xfrm>
                <a:custGeom>
                  <a:avLst/>
                  <a:gdLst/>
                  <a:ahLst/>
                  <a:rect l="l" t="t" r="r" b="b"/>
                  <a:pathLst>
                    <a:path w="2268" h="1134">
                      <a:moveTo>
                        <a:pt x="0" y="1134"/>
                      </a:moveTo>
                      <a:cubicBezTo>
                        <a:pt x="378" y="567"/>
                        <a:pt x="756" y="0"/>
                        <a:pt x="1134" y="0"/>
                      </a:cubicBezTo>
                      <a:cubicBezTo>
                        <a:pt x="1512" y="0"/>
                        <a:pt x="1890" y="567"/>
                        <a:pt x="2268" y="1134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7" name=""/>
              <p:cNvGrpSpPr/>
              <p:nvPr/>
            </p:nvGrpSpPr>
            <p:grpSpPr>
              <a:xfrm>
                <a:off x="4307400" y="3713040"/>
                <a:ext cx="240120" cy="649440"/>
                <a:chOff x="4307400" y="3713040"/>
                <a:chExt cx="240120" cy="649440"/>
              </a:xfrm>
            </p:grpSpPr>
            <p:sp>
              <p:nvSpPr>
                <p:cNvPr id="748" name=""/>
                <p:cNvSpPr/>
                <p:nvPr/>
              </p:nvSpPr>
              <p:spPr>
                <a:xfrm>
                  <a:off x="4307400" y="3713040"/>
                  <a:ext cx="120240" cy="324720"/>
                </a:xfrm>
                <a:custGeom>
                  <a:avLst/>
                  <a:gdLst/>
                  <a:ahLst/>
                  <a:rect l="l" t="t" r="r" b="b"/>
                  <a:pathLst>
                    <a:path w="2268" h="1134">
                      <a:moveTo>
                        <a:pt x="0" y="1134"/>
                      </a:moveTo>
                      <a:cubicBezTo>
                        <a:pt x="378" y="567"/>
                        <a:pt x="756" y="0"/>
                        <a:pt x="1134" y="0"/>
                      </a:cubicBezTo>
                      <a:cubicBezTo>
                        <a:pt x="1512" y="0"/>
                        <a:pt x="1890" y="567"/>
                        <a:pt x="2268" y="1134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 flipV="1">
                  <a:off x="4427280" y="4037760"/>
                  <a:ext cx="120240" cy="324720"/>
                </a:xfrm>
                <a:custGeom>
                  <a:avLst/>
                  <a:gdLst/>
                  <a:ahLst/>
                  <a:rect l="l" t="t" r="r" b="b"/>
                  <a:pathLst>
                    <a:path w="2268" h="1134">
                      <a:moveTo>
                        <a:pt x="0" y="1134"/>
                      </a:moveTo>
                      <a:cubicBezTo>
                        <a:pt x="378" y="567"/>
                        <a:pt x="756" y="0"/>
                        <a:pt x="1134" y="0"/>
                      </a:cubicBezTo>
                      <a:cubicBezTo>
                        <a:pt x="1512" y="0"/>
                        <a:pt x="1890" y="567"/>
                        <a:pt x="2268" y="1134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0" name=""/>
              <p:cNvGrpSpPr/>
              <p:nvPr/>
            </p:nvGrpSpPr>
            <p:grpSpPr>
              <a:xfrm>
                <a:off x="4547520" y="3713040"/>
                <a:ext cx="240120" cy="649440"/>
                <a:chOff x="4547520" y="3713040"/>
                <a:chExt cx="240120" cy="649440"/>
              </a:xfrm>
            </p:grpSpPr>
            <p:sp>
              <p:nvSpPr>
                <p:cNvPr id="751" name=""/>
                <p:cNvSpPr/>
                <p:nvPr/>
              </p:nvSpPr>
              <p:spPr>
                <a:xfrm>
                  <a:off x="4547520" y="3713040"/>
                  <a:ext cx="120240" cy="324720"/>
                </a:xfrm>
                <a:custGeom>
                  <a:avLst/>
                  <a:gdLst/>
                  <a:ahLst/>
                  <a:rect l="l" t="t" r="r" b="b"/>
                  <a:pathLst>
                    <a:path w="2268" h="1134">
                      <a:moveTo>
                        <a:pt x="0" y="1134"/>
                      </a:moveTo>
                      <a:cubicBezTo>
                        <a:pt x="378" y="567"/>
                        <a:pt x="756" y="0"/>
                        <a:pt x="1134" y="0"/>
                      </a:cubicBezTo>
                      <a:cubicBezTo>
                        <a:pt x="1512" y="0"/>
                        <a:pt x="1890" y="567"/>
                        <a:pt x="2268" y="1134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 flipV="1">
                  <a:off x="4667400" y="4037760"/>
                  <a:ext cx="120240" cy="324720"/>
                </a:xfrm>
                <a:custGeom>
                  <a:avLst/>
                  <a:gdLst/>
                  <a:ahLst/>
                  <a:rect l="l" t="t" r="r" b="b"/>
                  <a:pathLst>
                    <a:path w="2268" h="1134">
                      <a:moveTo>
                        <a:pt x="0" y="1134"/>
                      </a:moveTo>
                      <a:cubicBezTo>
                        <a:pt x="378" y="567"/>
                        <a:pt x="756" y="0"/>
                        <a:pt x="1134" y="0"/>
                      </a:cubicBezTo>
                      <a:cubicBezTo>
                        <a:pt x="1512" y="0"/>
                        <a:pt x="1890" y="567"/>
                        <a:pt x="2268" y="1134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3" name=""/>
            <p:cNvSpPr/>
            <p:nvPr/>
          </p:nvSpPr>
          <p:spPr>
            <a:xfrm>
              <a:off x="4716360" y="3641760"/>
              <a:ext cx="216000" cy="10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4" name=""/>
            <p:cNvGrpSpPr/>
            <p:nvPr/>
          </p:nvGrpSpPr>
          <p:grpSpPr>
            <a:xfrm>
              <a:off x="5435640" y="3713040"/>
              <a:ext cx="720360" cy="649440"/>
              <a:chOff x="5435640" y="3713040"/>
              <a:chExt cx="720360" cy="649440"/>
            </a:xfrm>
          </p:grpSpPr>
          <p:grpSp>
            <p:nvGrpSpPr>
              <p:cNvPr id="755" name=""/>
              <p:cNvGrpSpPr/>
              <p:nvPr/>
            </p:nvGrpSpPr>
            <p:grpSpPr>
              <a:xfrm>
                <a:off x="5435640" y="3713040"/>
                <a:ext cx="240120" cy="649440"/>
                <a:chOff x="5435640" y="3713040"/>
                <a:chExt cx="240120" cy="649440"/>
              </a:xfrm>
            </p:grpSpPr>
            <p:sp>
              <p:nvSpPr>
                <p:cNvPr id="756" name=""/>
                <p:cNvSpPr/>
                <p:nvPr/>
              </p:nvSpPr>
              <p:spPr>
                <a:xfrm>
                  <a:off x="5435640" y="3713040"/>
                  <a:ext cx="120240" cy="324720"/>
                </a:xfrm>
                <a:custGeom>
                  <a:avLst/>
                  <a:gdLst/>
                  <a:ahLst/>
                  <a:rect l="l" t="t" r="r" b="b"/>
                  <a:pathLst>
                    <a:path w="2268" h="1134">
                      <a:moveTo>
                        <a:pt x="0" y="1134"/>
                      </a:moveTo>
                      <a:cubicBezTo>
                        <a:pt x="378" y="567"/>
                        <a:pt x="756" y="0"/>
                        <a:pt x="1134" y="0"/>
                      </a:cubicBezTo>
                      <a:cubicBezTo>
                        <a:pt x="1512" y="0"/>
                        <a:pt x="1890" y="567"/>
                        <a:pt x="2268" y="1134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 flipV="1">
                  <a:off x="5555520" y="4037760"/>
                  <a:ext cx="120240" cy="324720"/>
                </a:xfrm>
                <a:custGeom>
                  <a:avLst/>
                  <a:gdLst/>
                  <a:ahLst/>
                  <a:rect l="l" t="t" r="r" b="b"/>
                  <a:pathLst>
                    <a:path w="2268" h="1134">
                      <a:moveTo>
                        <a:pt x="0" y="1134"/>
                      </a:moveTo>
                      <a:cubicBezTo>
                        <a:pt x="378" y="567"/>
                        <a:pt x="756" y="0"/>
                        <a:pt x="1134" y="0"/>
                      </a:cubicBezTo>
                      <a:cubicBezTo>
                        <a:pt x="1512" y="0"/>
                        <a:pt x="1890" y="567"/>
                        <a:pt x="2268" y="1134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8" name=""/>
              <p:cNvGrpSpPr/>
              <p:nvPr/>
            </p:nvGrpSpPr>
            <p:grpSpPr>
              <a:xfrm>
                <a:off x="5675760" y="3713040"/>
                <a:ext cx="240120" cy="649440"/>
                <a:chOff x="5675760" y="3713040"/>
                <a:chExt cx="240120" cy="649440"/>
              </a:xfrm>
            </p:grpSpPr>
            <p:sp>
              <p:nvSpPr>
                <p:cNvPr id="759" name=""/>
                <p:cNvSpPr/>
                <p:nvPr/>
              </p:nvSpPr>
              <p:spPr>
                <a:xfrm>
                  <a:off x="5675760" y="3713040"/>
                  <a:ext cx="120240" cy="324720"/>
                </a:xfrm>
                <a:custGeom>
                  <a:avLst/>
                  <a:gdLst/>
                  <a:ahLst/>
                  <a:rect l="l" t="t" r="r" b="b"/>
                  <a:pathLst>
                    <a:path w="2268" h="1134">
                      <a:moveTo>
                        <a:pt x="0" y="1134"/>
                      </a:moveTo>
                      <a:cubicBezTo>
                        <a:pt x="378" y="567"/>
                        <a:pt x="756" y="0"/>
                        <a:pt x="1134" y="0"/>
                      </a:cubicBezTo>
                      <a:cubicBezTo>
                        <a:pt x="1512" y="0"/>
                        <a:pt x="1890" y="567"/>
                        <a:pt x="2268" y="1134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 flipV="1">
                  <a:off x="5795640" y="4037760"/>
                  <a:ext cx="120240" cy="324720"/>
                </a:xfrm>
                <a:custGeom>
                  <a:avLst/>
                  <a:gdLst/>
                  <a:ahLst/>
                  <a:rect l="l" t="t" r="r" b="b"/>
                  <a:pathLst>
                    <a:path w="2268" h="1134">
                      <a:moveTo>
                        <a:pt x="0" y="1134"/>
                      </a:moveTo>
                      <a:cubicBezTo>
                        <a:pt x="378" y="567"/>
                        <a:pt x="756" y="0"/>
                        <a:pt x="1134" y="0"/>
                      </a:cubicBezTo>
                      <a:cubicBezTo>
                        <a:pt x="1512" y="0"/>
                        <a:pt x="1890" y="567"/>
                        <a:pt x="2268" y="1134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1" name=""/>
              <p:cNvGrpSpPr/>
              <p:nvPr/>
            </p:nvGrpSpPr>
            <p:grpSpPr>
              <a:xfrm>
                <a:off x="5915880" y="3713040"/>
                <a:ext cx="240120" cy="649440"/>
                <a:chOff x="5915880" y="3713040"/>
                <a:chExt cx="240120" cy="649440"/>
              </a:xfrm>
            </p:grpSpPr>
            <p:sp>
              <p:nvSpPr>
                <p:cNvPr id="762" name=""/>
                <p:cNvSpPr/>
                <p:nvPr/>
              </p:nvSpPr>
              <p:spPr>
                <a:xfrm>
                  <a:off x="5915880" y="3713040"/>
                  <a:ext cx="120240" cy="324720"/>
                </a:xfrm>
                <a:custGeom>
                  <a:avLst/>
                  <a:gdLst/>
                  <a:ahLst/>
                  <a:rect l="l" t="t" r="r" b="b"/>
                  <a:pathLst>
                    <a:path w="2268" h="1134">
                      <a:moveTo>
                        <a:pt x="0" y="1134"/>
                      </a:moveTo>
                      <a:cubicBezTo>
                        <a:pt x="378" y="567"/>
                        <a:pt x="756" y="0"/>
                        <a:pt x="1134" y="0"/>
                      </a:cubicBezTo>
                      <a:cubicBezTo>
                        <a:pt x="1512" y="0"/>
                        <a:pt x="1890" y="567"/>
                        <a:pt x="2268" y="1134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 flipV="1">
                  <a:off x="6035760" y="4037760"/>
                  <a:ext cx="120240" cy="324720"/>
                </a:xfrm>
                <a:custGeom>
                  <a:avLst/>
                  <a:gdLst/>
                  <a:ahLst/>
                  <a:rect l="l" t="t" r="r" b="b"/>
                  <a:pathLst>
                    <a:path w="2268" h="1134">
                      <a:moveTo>
                        <a:pt x="0" y="1134"/>
                      </a:moveTo>
                      <a:cubicBezTo>
                        <a:pt x="378" y="567"/>
                        <a:pt x="756" y="0"/>
                        <a:pt x="1134" y="0"/>
                      </a:cubicBezTo>
                      <a:cubicBezTo>
                        <a:pt x="1512" y="0"/>
                        <a:pt x="1890" y="567"/>
                        <a:pt x="2268" y="1134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64" name=""/>
            <p:cNvSpPr/>
            <p:nvPr/>
          </p:nvSpPr>
          <p:spPr>
            <a:xfrm>
              <a:off x="6084720" y="3641760"/>
              <a:ext cx="216000" cy="10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>
              <a:off x="4787640" y="4038480"/>
              <a:ext cx="64764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 flipH="1">
              <a:off x="6156000" y="4038480"/>
              <a:ext cx="57636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195640" y="2778120"/>
              <a:ext cx="4537080" cy="792000"/>
            </a:xfrm>
            <a:custGeom>
              <a:avLst/>
              <a:gdLst/>
              <a:ahLst/>
              <a:rect l="l" t="t" r="r" b="b"/>
              <a:pathLst>
                <a:path w="2858" h="499">
                  <a:moveTo>
                    <a:pt x="0" y="499"/>
                  </a:moveTo>
                  <a:lnTo>
                    <a:pt x="273" y="499"/>
                  </a:lnTo>
                  <a:lnTo>
                    <a:pt x="273" y="0"/>
                  </a:lnTo>
                  <a:lnTo>
                    <a:pt x="726" y="0"/>
                  </a:lnTo>
                  <a:lnTo>
                    <a:pt x="726" y="499"/>
                  </a:lnTo>
                  <a:lnTo>
                    <a:pt x="1180" y="499"/>
                  </a:lnTo>
                  <a:lnTo>
                    <a:pt x="1180" y="0"/>
                  </a:lnTo>
                  <a:lnTo>
                    <a:pt x="1633" y="0"/>
                  </a:lnTo>
                  <a:lnTo>
                    <a:pt x="1633" y="499"/>
                  </a:lnTo>
                  <a:lnTo>
                    <a:pt x="2042" y="499"/>
                  </a:lnTo>
                  <a:lnTo>
                    <a:pt x="2042" y="0"/>
                  </a:lnTo>
                  <a:lnTo>
                    <a:pt x="2495" y="0"/>
                  </a:lnTo>
                  <a:lnTo>
                    <a:pt x="2495" y="499"/>
                  </a:lnTo>
                  <a:lnTo>
                    <a:pt x="2858" y="499"/>
                  </a:ln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8" name=""/>
          <p:cNvGrpSpPr/>
          <p:nvPr/>
        </p:nvGrpSpPr>
        <p:grpSpPr>
          <a:xfrm>
            <a:off x="2771280" y="4289400"/>
            <a:ext cx="3815640" cy="1302120"/>
            <a:chOff x="2771280" y="4289400"/>
            <a:chExt cx="3815640" cy="1302120"/>
          </a:xfrm>
        </p:grpSpPr>
        <p:sp>
          <p:nvSpPr>
            <p:cNvPr id="769" name=""/>
            <p:cNvSpPr/>
            <p:nvPr/>
          </p:nvSpPr>
          <p:spPr>
            <a:xfrm>
              <a:off x="2771280" y="5010120"/>
              <a:ext cx="381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8000"/>
                  </a:solidFill>
                  <a:latin typeface="Arial"/>
                </a:rPr>
                <a:t>Doesn’t end on zer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 flipH="1" flipV="1">
              <a:off x="3419280" y="4289400"/>
              <a:ext cx="360360" cy="72072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 flipV="1">
              <a:off x="4572000" y="4505040"/>
              <a:ext cx="144360" cy="57636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 flipV="1">
              <a:off x="5580000" y="4433760"/>
              <a:ext cx="504720" cy="72072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3" name="" descr=""/>
          <p:cNvPicPr/>
          <p:nvPr/>
        </p:nvPicPr>
        <p:blipFill>
          <a:blip r:embed="rId1"/>
          <a:srcRect l="2573" t="32681" r="4965" b="34729"/>
          <a:stretch/>
        </p:blipFill>
        <p:spPr>
          <a:xfrm>
            <a:off x="125280" y="260280"/>
            <a:ext cx="9018720" cy="2303640"/>
          </a:xfrm>
          <a:prstGeom prst="rect">
            <a:avLst/>
          </a:prstGeom>
          <a:ln w="0">
            <a:noFill/>
          </a:ln>
        </p:spPr>
      </p:pic>
      <p:pic>
        <p:nvPicPr>
          <p:cNvPr id="774" name="" descr=""/>
          <p:cNvPicPr/>
          <p:nvPr/>
        </p:nvPicPr>
        <p:blipFill>
          <a:blip r:embed="rId2"/>
          <a:stretch/>
        </p:blipFill>
        <p:spPr>
          <a:xfrm>
            <a:off x="1476360" y="2584440"/>
            <a:ext cx="6156360" cy="4300560"/>
          </a:xfrm>
          <a:prstGeom prst="rect">
            <a:avLst/>
          </a:prstGeom>
          <a:ln w="0">
            <a:noFill/>
          </a:ln>
        </p:spPr>
      </p:pic>
      <p:pic>
        <p:nvPicPr>
          <p:cNvPr id="775" name="" descr=""/>
          <p:cNvPicPr/>
          <p:nvPr/>
        </p:nvPicPr>
        <p:blipFill>
          <a:blip r:embed="rId3"/>
          <a:srcRect l="4965" t="33695" r="5696" b="35738"/>
          <a:stretch/>
        </p:blipFill>
        <p:spPr>
          <a:xfrm>
            <a:off x="250920" y="333360"/>
            <a:ext cx="8713800" cy="2160720"/>
          </a:xfrm>
          <a:prstGeom prst="rect">
            <a:avLst/>
          </a:prstGeom>
          <a:ln w="0">
            <a:noFill/>
          </a:ln>
        </p:spPr>
      </p:pic>
      <p:pic>
        <p:nvPicPr>
          <p:cNvPr id="776" name="" descr=""/>
          <p:cNvPicPr/>
          <p:nvPr/>
        </p:nvPicPr>
        <p:blipFill>
          <a:blip r:embed="rId4"/>
          <a:srcRect l="3319" t="31673" r="5500" b="32681"/>
          <a:stretch/>
        </p:blipFill>
        <p:spPr>
          <a:xfrm>
            <a:off x="179280" y="115920"/>
            <a:ext cx="8893440" cy="2519280"/>
          </a:xfrm>
          <a:prstGeom prst="rect">
            <a:avLst/>
          </a:prstGeom>
          <a:ln w="0">
            <a:noFill/>
          </a:ln>
        </p:spPr>
      </p:pic>
      <p:pic>
        <p:nvPicPr>
          <p:cNvPr id="777" name="" descr=""/>
          <p:cNvPicPr/>
          <p:nvPr/>
        </p:nvPicPr>
        <p:blipFill>
          <a:blip r:embed="rId5"/>
          <a:stretch/>
        </p:blipFill>
        <p:spPr>
          <a:xfrm>
            <a:off x="1476360" y="2532240"/>
            <a:ext cx="6191280" cy="4325760"/>
          </a:xfrm>
          <a:prstGeom prst="rect">
            <a:avLst/>
          </a:prstGeom>
          <a:ln w="0">
            <a:noFill/>
          </a:ln>
        </p:spPr>
      </p:pic>
      <p:pic>
        <p:nvPicPr>
          <p:cNvPr id="778" name="" descr=""/>
          <p:cNvPicPr/>
          <p:nvPr/>
        </p:nvPicPr>
        <p:blipFill>
          <a:blip r:embed="rId6"/>
          <a:stretch/>
        </p:blipFill>
        <p:spPr>
          <a:xfrm>
            <a:off x="1476360" y="2557440"/>
            <a:ext cx="6156360" cy="4300560"/>
          </a:xfrm>
          <a:prstGeom prst="rect">
            <a:avLst/>
          </a:prstGeom>
          <a:ln w="0">
            <a:noFill/>
          </a:ln>
        </p:spPr>
      </p:pic>
      <p:pic>
        <p:nvPicPr>
          <p:cNvPr id="779" name="" descr=""/>
          <p:cNvPicPr/>
          <p:nvPr/>
        </p:nvPicPr>
        <p:blipFill>
          <a:blip r:embed="rId7"/>
          <a:srcRect l="3127" t="31673" r="4965" b="34729"/>
          <a:stretch/>
        </p:blipFill>
        <p:spPr>
          <a:xfrm>
            <a:off x="179280" y="189000"/>
            <a:ext cx="8964720" cy="2374920"/>
          </a:xfrm>
          <a:prstGeom prst="rect">
            <a:avLst/>
          </a:prstGeom>
          <a:ln w="0">
            <a:noFill/>
          </a:ln>
        </p:spPr>
      </p:pic>
      <p:pic>
        <p:nvPicPr>
          <p:cNvPr id="780" name="" descr=""/>
          <p:cNvPicPr/>
          <p:nvPr/>
        </p:nvPicPr>
        <p:blipFill>
          <a:blip r:embed="rId8"/>
          <a:srcRect l="4965" t="31673" r="5696" b="34729"/>
          <a:stretch/>
        </p:blipFill>
        <p:spPr>
          <a:xfrm>
            <a:off x="250920" y="189000"/>
            <a:ext cx="8713800" cy="2374920"/>
          </a:xfrm>
          <a:prstGeom prst="rect">
            <a:avLst/>
          </a:prstGeom>
          <a:ln w="0">
            <a:noFill/>
          </a:ln>
        </p:spPr>
      </p:pic>
      <p:pic>
        <p:nvPicPr>
          <p:cNvPr id="781" name="" descr=""/>
          <p:cNvPicPr/>
          <p:nvPr/>
        </p:nvPicPr>
        <p:blipFill>
          <a:blip r:embed="rId9"/>
          <a:stretch/>
        </p:blipFill>
        <p:spPr>
          <a:xfrm>
            <a:off x="1476360" y="2565360"/>
            <a:ext cx="6191280" cy="4324320"/>
          </a:xfrm>
          <a:prstGeom prst="rect">
            <a:avLst/>
          </a:prstGeom>
          <a:ln w="0">
            <a:noFill/>
          </a:ln>
        </p:spPr>
      </p:pic>
      <p:pic>
        <p:nvPicPr>
          <p:cNvPr id="782" name="" descr=""/>
          <p:cNvPicPr/>
          <p:nvPr/>
        </p:nvPicPr>
        <p:blipFill>
          <a:blip r:embed="rId10"/>
          <a:stretch/>
        </p:blipFill>
        <p:spPr>
          <a:xfrm>
            <a:off x="1476360" y="2565360"/>
            <a:ext cx="6191280" cy="4324320"/>
          </a:xfrm>
          <a:prstGeom prst="rect">
            <a:avLst/>
          </a:prstGeom>
          <a:ln w="0">
            <a:noFill/>
          </a:ln>
        </p:spPr>
      </p:pic>
      <p:pic>
        <p:nvPicPr>
          <p:cNvPr id="783" name="" descr=""/>
          <p:cNvPicPr/>
          <p:nvPr/>
        </p:nvPicPr>
        <p:blipFill>
          <a:blip r:embed="rId11"/>
          <a:srcRect l="3127" t="32681" r="4965" b="35738"/>
          <a:stretch/>
        </p:blipFill>
        <p:spPr>
          <a:xfrm>
            <a:off x="71280" y="333360"/>
            <a:ext cx="8964720" cy="2232000"/>
          </a:xfrm>
          <a:prstGeom prst="rect">
            <a:avLst/>
          </a:prstGeom>
          <a:ln w="0">
            <a:noFill/>
          </a:ln>
        </p:spPr>
      </p:pic>
      <p:sp>
        <p:nvSpPr>
          <p:cNvPr id="784" name=""/>
          <p:cNvSpPr/>
          <p:nvPr/>
        </p:nvSpPr>
        <p:spPr>
          <a:xfrm>
            <a:off x="1836720" y="5300640"/>
            <a:ext cx="207648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ndwid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 rot="5400000">
            <a:off x="2662920" y="3753360"/>
            <a:ext cx="360360" cy="2448000"/>
          </a:xfrm>
          <a:custGeom>
            <a:avLst/>
            <a:gdLst>
              <a:gd name="textAreaLeft" fmla="*/ 0 w 360360"/>
              <a:gd name="textAreaRight" fmla="*/ 129960 w 360360"/>
              <a:gd name="textAreaTop" fmla="*/ 63720 h 2448000"/>
              <a:gd name="textAreaBottom" fmla="*/ 238428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/>
          <p:nvPr/>
        </p:nvSpPr>
        <p:spPr>
          <a:xfrm>
            <a:off x="179280" y="692280"/>
            <a:ext cx="856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Bandwidth is the range of frequencies used in the carrier sig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9280" y="2266920"/>
            <a:ext cx="891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The higher the “base” frequency the broader the bandwid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250920" y="5084640"/>
            <a:ext cx="879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Bandwidth =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½ x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maximum digital sampling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248760" y="4005360"/>
            <a:ext cx="632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our purposes we can consi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/>
          <p:nvPr/>
        </p:nvSpPr>
        <p:spPr>
          <a:xfrm>
            <a:off x="376200" y="466560"/>
            <a:ext cx="84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way to utilise high frequency communications i.e. high carrier frequ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2917440" y="1844640"/>
            <a:ext cx="316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Multiplex sig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539640" y="3068640"/>
            <a:ext cx="813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ransfer data at maximum rate of carrier, then use the slack time between samples to send another separate mes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3" name=""/>
          <p:cNvGrpSpPr/>
          <p:nvPr/>
        </p:nvGrpSpPr>
        <p:grpSpPr>
          <a:xfrm>
            <a:off x="153720" y="3124080"/>
            <a:ext cx="8562240" cy="1648080"/>
            <a:chOff x="153720" y="3124080"/>
            <a:chExt cx="8562240" cy="1648080"/>
          </a:xfrm>
        </p:grpSpPr>
        <p:sp>
          <p:nvSpPr>
            <p:cNvPr id="794" name=""/>
            <p:cNvSpPr/>
            <p:nvPr/>
          </p:nvSpPr>
          <p:spPr>
            <a:xfrm>
              <a:off x="380880" y="3352680"/>
              <a:ext cx="8077320" cy="1522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53720" y="36576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643120" y="36576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132160" y="36576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621560" y="36576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9" name=""/>
            <p:cNvGrpSpPr/>
            <p:nvPr/>
          </p:nvGrpSpPr>
          <p:grpSpPr>
            <a:xfrm>
              <a:off x="380880" y="3124080"/>
              <a:ext cx="7467840" cy="533520"/>
              <a:chOff x="380880" y="3124080"/>
              <a:chExt cx="7467840" cy="533520"/>
            </a:xfrm>
          </p:grpSpPr>
          <p:sp>
            <p:nvSpPr>
              <p:cNvPr id="800" name=""/>
              <p:cNvSpPr/>
              <p:nvPr/>
            </p:nvSpPr>
            <p:spPr>
              <a:xfrm flipV="1">
                <a:off x="380880" y="3124080"/>
                <a:ext cx="0" cy="5335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flipV="1">
                <a:off x="2870280" y="3124080"/>
                <a:ext cx="0" cy="5335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flipV="1">
                <a:off x="5359320" y="3124080"/>
                <a:ext cx="0" cy="5335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flipV="1">
                <a:off x="7848720" y="3124080"/>
                <a:ext cx="0" cy="5335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4" name=""/>
            <p:cNvSpPr/>
            <p:nvPr/>
          </p:nvSpPr>
          <p:spPr>
            <a:xfrm>
              <a:off x="7315920" y="419076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Time/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5" name=""/>
          <p:cNvSpPr/>
          <p:nvPr/>
        </p:nvSpPr>
        <p:spPr>
          <a:xfrm>
            <a:off x="227160" y="380880"/>
            <a:ext cx="771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sample is 3 bits long (000, 010, 110 et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249120" y="1197000"/>
            <a:ext cx="52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ransfer rate very high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"/>
          <p:cNvGrpSpPr/>
          <p:nvPr/>
        </p:nvGrpSpPr>
        <p:grpSpPr>
          <a:xfrm>
            <a:off x="180360" y="2492280"/>
            <a:ext cx="5952240" cy="581400"/>
            <a:chOff x="180360" y="2492280"/>
            <a:chExt cx="5952240" cy="581400"/>
          </a:xfrm>
        </p:grpSpPr>
        <p:grpSp>
          <p:nvGrpSpPr>
            <p:cNvPr id="808" name=""/>
            <p:cNvGrpSpPr/>
            <p:nvPr/>
          </p:nvGrpSpPr>
          <p:grpSpPr>
            <a:xfrm>
              <a:off x="180360" y="2492280"/>
              <a:ext cx="911880" cy="581400"/>
              <a:chOff x="180360" y="2492280"/>
              <a:chExt cx="911880" cy="581400"/>
            </a:xfrm>
          </p:grpSpPr>
          <p:sp>
            <p:nvSpPr>
              <p:cNvPr id="809" name=""/>
              <p:cNvSpPr/>
              <p:nvPr/>
            </p:nvSpPr>
            <p:spPr>
              <a:xfrm>
                <a:off x="180360" y="249228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433080" y="249228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685800" y="249228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2" name=""/>
            <p:cNvGrpSpPr/>
            <p:nvPr/>
          </p:nvGrpSpPr>
          <p:grpSpPr>
            <a:xfrm>
              <a:off x="2701440" y="2492280"/>
              <a:ext cx="911880" cy="581400"/>
              <a:chOff x="2701440" y="2492280"/>
              <a:chExt cx="911880" cy="581400"/>
            </a:xfrm>
          </p:grpSpPr>
          <p:sp>
            <p:nvSpPr>
              <p:cNvPr id="813" name=""/>
              <p:cNvSpPr/>
              <p:nvPr/>
            </p:nvSpPr>
            <p:spPr>
              <a:xfrm>
                <a:off x="2701440" y="249228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954160" y="249228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206880" y="249228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6" name=""/>
            <p:cNvGrpSpPr/>
            <p:nvPr/>
          </p:nvGrpSpPr>
          <p:grpSpPr>
            <a:xfrm>
              <a:off x="5220720" y="2492280"/>
              <a:ext cx="911880" cy="581400"/>
              <a:chOff x="5220720" y="2492280"/>
              <a:chExt cx="911880" cy="581400"/>
            </a:xfrm>
          </p:grpSpPr>
          <p:sp>
            <p:nvSpPr>
              <p:cNvPr id="817" name=""/>
              <p:cNvSpPr/>
              <p:nvPr/>
            </p:nvSpPr>
            <p:spPr>
              <a:xfrm>
                <a:off x="5220720" y="249228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5473440" y="249228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5726160" y="249228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20" name=""/>
          <p:cNvGrpSpPr/>
          <p:nvPr/>
        </p:nvGrpSpPr>
        <p:grpSpPr>
          <a:xfrm>
            <a:off x="972720" y="2489040"/>
            <a:ext cx="5952240" cy="584640"/>
            <a:chOff x="972720" y="2489040"/>
            <a:chExt cx="5952240" cy="584640"/>
          </a:xfrm>
        </p:grpSpPr>
        <p:grpSp>
          <p:nvGrpSpPr>
            <p:cNvPr id="821" name=""/>
            <p:cNvGrpSpPr/>
            <p:nvPr/>
          </p:nvGrpSpPr>
          <p:grpSpPr>
            <a:xfrm>
              <a:off x="972720" y="2492280"/>
              <a:ext cx="911880" cy="581400"/>
              <a:chOff x="972720" y="2492280"/>
              <a:chExt cx="911880" cy="581400"/>
            </a:xfrm>
          </p:grpSpPr>
          <p:sp>
            <p:nvSpPr>
              <p:cNvPr id="822" name=""/>
              <p:cNvSpPr/>
              <p:nvPr/>
            </p:nvSpPr>
            <p:spPr>
              <a:xfrm>
                <a:off x="972720" y="249228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333399"/>
                    </a:solidFill>
                    <a:latin typeface="Arial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1225440" y="249228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333399"/>
                    </a:solidFill>
                    <a:latin typeface="Arial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478160" y="249228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333399"/>
                    </a:solidFill>
                    <a:latin typeface="Arial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5" name=""/>
            <p:cNvGrpSpPr/>
            <p:nvPr/>
          </p:nvGrpSpPr>
          <p:grpSpPr>
            <a:xfrm>
              <a:off x="3493440" y="2492280"/>
              <a:ext cx="911880" cy="581400"/>
              <a:chOff x="3493440" y="2492280"/>
              <a:chExt cx="911880" cy="581400"/>
            </a:xfrm>
          </p:grpSpPr>
          <p:sp>
            <p:nvSpPr>
              <p:cNvPr id="826" name=""/>
              <p:cNvSpPr/>
              <p:nvPr/>
            </p:nvSpPr>
            <p:spPr>
              <a:xfrm>
                <a:off x="3493440" y="249228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333399"/>
                    </a:solidFill>
                    <a:latin typeface="Arial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3746160" y="249228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333399"/>
                    </a:solidFill>
                    <a:latin typeface="Arial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3998880" y="249228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333399"/>
                    </a:solidFill>
                    <a:latin typeface="Arial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9" name=""/>
            <p:cNvGrpSpPr/>
            <p:nvPr/>
          </p:nvGrpSpPr>
          <p:grpSpPr>
            <a:xfrm>
              <a:off x="6013080" y="2489040"/>
              <a:ext cx="911880" cy="581400"/>
              <a:chOff x="6013080" y="2489040"/>
              <a:chExt cx="911880" cy="581400"/>
            </a:xfrm>
          </p:grpSpPr>
          <p:sp>
            <p:nvSpPr>
              <p:cNvPr id="830" name=""/>
              <p:cNvSpPr/>
              <p:nvPr/>
            </p:nvSpPr>
            <p:spPr>
              <a:xfrm>
                <a:off x="6013080" y="248904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333399"/>
                    </a:solidFill>
                    <a:latin typeface="Arial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6265800" y="248904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333399"/>
                    </a:solidFill>
                    <a:latin typeface="Arial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518520" y="248904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333399"/>
                    </a:solidFill>
                    <a:latin typeface="Arial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3" name=""/>
          <p:cNvGrpSpPr/>
          <p:nvPr/>
        </p:nvGrpSpPr>
        <p:grpSpPr>
          <a:xfrm>
            <a:off x="1836360" y="2489040"/>
            <a:ext cx="5952240" cy="584640"/>
            <a:chOff x="1836360" y="2489040"/>
            <a:chExt cx="5952240" cy="584640"/>
          </a:xfrm>
        </p:grpSpPr>
        <p:grpSp>
          <p:nvGrpSpPr>
            <p:cNvPr id="834" name=""/>
            <p:cNvGrpSpPr/>
            <p:nvPr/>
          </p:nvGrpSpPr>
          <p:grpSpPr>
            <a:xfrm>
              <a:off x="1836360" y="2492280"/>
              <a:ext cx="911880" cy="581400"/>
              <a:chOff x="1836360" y="2492280"/>
              <a:chExt cx="911880" cy="581400"/>
            </a:xfrm>
          </p:grpSpPr>
          <p:sp>
            <p:nvSpPr>
              <p:cNvPr id="835" name=""/>
              <p:cNvSpPr/>
              <p:nvPr/>
            </p:nvSpPr>
            <p:spPr>
              <a:xfrm>
                <a:off x="1836360" y="249228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8000"/>
                    </a:solidFill>
                    <a:latin typeface="Arial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2089080" y="249228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8000"/>
                    </a:solidFill>
                    <a:latin typeface="Arial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2341800" y="249228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8000"/>
                    </a:solidFill>
                    <a:latin typeface="Arial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8" name=""/>
            <p:cNvGrpSpPr/>
            <p:nvPr/>
          </p:nvGrpSpPr>
          <p:grpSpPr>
            <a:xfrm>
              <a:off x="4357080" y="2492280"/>
              <a:ext cx="911880" cy="581400"/>
              <a:chOff x="4357080" y="2492280"/>
              <a:chExt cx="911880" cy="581400"/>
            </a:xfrm>
          </p:grpSpPr>
          <p:sp>
            <p:nvSpPr>
              <p:cNvPr id="839" name=""/>
              <p:cNvSpPr/>
              <p:nvPr/>
            </p:nvSpPr>
            <p:spPr>
              <a:xfrm>
                <a:off x="4357080" y="249228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8000"/>
                    </a:solidFill>
                    <a:latin typeface="Arial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4609800" y="249228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8000"/>
                    </a:solidFill>
                    <a:latin typeface="Arial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4862520" y="249228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8000"/>
                    </a:solidFill>
                    <a:latin typeface="Arial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2" name=""/>
            <p:cNvGrpSpPr/>
            <p:nvPr/>
          </p:nvGrpSpPr>
          <p:grpSpPr>
            <a:xfrm>
              <a:off x="6876720" y="2489040"/>
              <a:ext cx="911880" cy="581400"/>
              <a:chOff x="6876720" y="2489040"/>
              <a:chExt cx="911880" cy="581400"/>
            </a:xfrm>
          </p:grpSpPr>
          <p:sp>
            <p:nvSpPr>
              <p:cNvPr id="843" name=""/>
              <p:cNvSpPr/>
              <p:nvPr/>
            </p:nvSpPr>
            <p:spPr>
              <a:xfrm>
                <a:off x="6876720" y="248904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8000"/>
                    </a:solidFill>
                    <a:latin typeface="Arial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129440" y="248904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8000"/>
                    </a:solidFill>
                    <a:latin typeface="Arial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7382160" y="248904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8000"/>
                    </a:solidFill>
                    <a:latin typeface="Arial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46" name=""/>
          <p:cNvSpPr/>
          <p:nvPr/>
        </p:nvSpPr>
        <p:spPr>
          <a:xfrm>
            <a:off x="1906200" y="4797360"/>
            <a:ext cx="472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separate conserv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396000" y="333360"/>
            <a:ext cx="146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ise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1908000" y="333360"/>
            <a:ext cx="6932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andom signal fluctuations added to transmitted sig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303120" y="1835280"/>
            <a:ext cx="8589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Easier to extract original signal from digital rather than analogue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" descr=""/>
          <p:cNvPicPr/>
          <p:nvPr/>
        </p:nvPicPr>
        <p:blipFill>
          <a:blip r:embed="rId1"/>
          <a:srcRect l="0" t="39791" r="0" b="37219"/>
          <a:stretch/>
        </p:blipFill>
        <p:spPr>
          <a:xfrm>
            <a:off x="468360" y="3454560"/>
            <a:ext cx="8209080" cy="2484360"/>
          </a:xfrm>
          <a:prstGeom prst="rect">
            <a:avLst/>
          </a:prstGeom>
          <a:ln w="0">
            <a:noFill/>
          </a:ln>
        </p:spPr>
      </p:pic>
      <p:pic>
        <p:nvPicPr>
          <p:cNvPr id="851" name="" descr=""/>
          <p:cNvPicPr/>
          <p:nvPr/>
        </p:nvPicPr>
        <p:blipFill>
          <a:blip r:embed="rId2"/>
          <a:srcRect l="0" t="5953" r="0" b="67050"/>
          <a:stretch/>
        </p:blipFill>
        <p:spPr>
          <a:xfrm>
            <a:off x="395280" y="3213000"/>
            <a:ext cx="8352000" cy="2970360"/>
          </a:xfrm>
          <a:prstGeom prst="rect">
            <a:avLst/>
          </a:prstGeom>
          <a:ln w="0">
            <a:noFill/>
          </a:ln>
        </p:spPr>
      </p:pic>
      <p:pic>
        <p:nvPicPr>
          <p:cNvPr id="852" name="" descr=""/>
          <p:cNvPicPr/>
          <p:nvPr/>
        </p:nvPicPr>
        <p:blipFill>
          <a:blip r:embed="rId3"/>
          <a:srcRect l="0" t="72748" r="0" b="3105"/>
          <a:stretch/>
        </p:blipFill>
        <p:spPr>
          <a:xfrm>
            <a:off x="395280" y="3357720"/>
            <a:ext cx="8353440" cy="251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3" name=""/>
          <p:cNvGrpSpPr/>
          <p:nvPr/>
        </p:nvGrpSpPr>
        <p:grpSpPr>
          <a:xfrm>
            <a:off x="1619280" y="2549520"/>
            <a:ext cx="5689080" cy="2858760"/>
            <a:chOff x="1619280" y="2549520"/>
            <a:chExt cx="5689080" cy="2858760"/>
          </a:xfrm>
        </p:grpSpPr>
        <p:sp>
          <p:nvSpPr>
            <p:cNvPr id="854" name=""/>
            <p:cNvSpPr/>
            <p:nvPr/>
          </p:nvSpPr>
          <p:spPr>
            <a:xfrm>
              <a:off x="1619280" y="5202720"/>
              <a:ext cx="5689080" cy="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619280" y="4794480"/>
              <a:ext cx="5689080" cy="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619280" y="4386240"/>
              <a:ext cx="5689080" cy="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619280" y="3774600"/>
              <a:ext cx="5689080" cy="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619280" y="3366000"/>
              <a:ext cx="5689080" cy="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619280" y="2957400"/>
              <a:ext cx="5689080" cy="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1619280" y="2549520"/>
              <a:ext cx="5689080" cy="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619280" y="3977640"/>
              <a:ext cx="5689080" cy="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619280" y="3569040"/>
              <a:ext cx="5689080" cy="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1619280" y="3161160"/>
              <a:ext cx="5689080" cy="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619280" y="2752560"/>
              <a:ext cx="5689080" cy="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1619280" y="5408280"/>
              <a:ext cx="5689080" cy="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619280" y="4999680"/>
              <a:ext cx="5689080" cy="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1619280" y="4591080"/>
              <a:ext cx="5689080" cy="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1619280" y="4183200"/>
              <a:ext cx="5689080" cy="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9" name=""/>
          <p:cNvSpPr/>
          <p:nvPr/>
        </p:nvSpPr>
        <p:spPr>
          <a:xfrm>
            <a:off x="250200" y="189000"/>
            <a:ext cx="570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 voltage resolu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538200" y="69228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e difference in voltage between consecutive leve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393840" y="1413000"/>
            <a:ext cx="86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If noise is bigger than voltage resolution the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970560" y="6089760"/>
            <a:ext cx="68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No point having such good 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1619280" y="2200320"/>
            <a:ext cx="0" cy="345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1619280" y="2602080"/>
            <a:ext cx="5449680" cy="3132000"/>
          </a:xfrm>
          <a:custGeom>
            <a:avLst/>
            <a:gdLst/>
            <a:ahLst/>
            <a:rect l="l" t="t" r="r" b="b"/>
            <a:pathLst>
              <a:path w="2177" h="1105">
                <a:moveTo>
                  <a:pt x="0" y="802"/>
                </a:moveTo>
                <a:cubicBezTo>
                  <a:pt x="79" y="907"/>
                  <a:pt x="159" y="1013"/>
                  <a:pt x="227" y="938"/>
                </a:cubicBezTo>
                <a:cubicBezTo>
                  <a:pt x="295" y="863"/>
                  <a:pt x="340" y="500"/>
                  <a:pt x="408" y="349"/>
                </a:cubicBezTo>
                <a:cubicBezTo>
                  <a:pt x="476" y="198"/>
                  <a:pt x="529" y="16"/>
                  <a:pt x="635" y="31"/>
                </a:cubicBezTo>
                <a:cubicBezTo>
                  <a:pt x="741" y="46"/>
                  <a:pt x="915" y="280"/>
                  <a:pt x="1043" y="439"/>
                </a:cubicBezTo>
                <a:cubicBezTo>
                  <a:pt x="1171" y="598"/>
                  <a:pt x="1308" y="1022"/>
                  <a:pt x="1406" y="984"/>
                </a:cubicBezTo>
                <a:cubicBezTo>
                  <a:pt x="1504" y="946"/>
                  <a:pt x="1580" y="281"/>
                  <a:pt x="1633" y="213"/>
                </a:cubicBezTo>
                <a:cubicBezTo>
                  <a:pt x="1686" y="145"/>
                  <a:pt x="1694" y="598"/>
                  <a:pt x="1724" y="575"/>
                </a:cubicBezTo>
                <a:cubicBezTo>
                  <a:pt x="1754" y="552"/>
                  <a:pt x="1769" y="0"/>
                  <a:pt x="1814" y="76"/>
                </a:cubicBezTo>
                <a:cubicBezTo>
                  <a:pt x="1859" y="152"/>
                  <a:pt x="1936" y="953"/>
                  <a:pt x="1996" y="1029"/>
                </a:cubicBezTo>
                <a:cubicBezTo>
                  <a:pt x="2056" y="1105"/>
                  <a:pt x="2116" y="817"/>
                  <a:pt x="2177" y="530"/>
                </a:cubicBezTo>
              </a:path>
            </a:pathLst>
          </a:custGeom>
          <a:noFill/>
          <a:ln w="381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5" name=""/>
          <p:cNvGrpSpPr/>
          <p:nvPr/>
        </p:nvGrpSpPr>
        <p:grpSpPr>
          <a:xfrm>
            <a:off x="1619280" y="2489040"/>
            <a:ext cx="5546160" cy="3244680"/>
            <a:chOff x="1619280" y="2489040"/>
            <a:chExt cx="5546160" cy="3244680"/>
          </a:xfrm>
        </p:grpSpPr>
        <p:sp>
          <p:nvSpPr>
            <p:cNvPr id="876" name=""/>
            <p:cNvSpPr/>
            <p:nvPr/>
          </p:nvSpPr>
          <p:spPr>
            <a:xfrm>
              <a:off x="1619280" y="2489040"/>
              <a:ext cx="3782520" cy="3185280"/>
            </a:xfrm>
            <a:custGeom>
              <a:avLst/>
              <a:gdLst/>
              <a:ahLst/>
              <a:rect l="l" t="t" r="r" b="b"/>
              <a:pathLst>
                <a:path w="3062" h="2404">
                  <a:moveTo>
                    <a:pt x="0" y="1905"/>
                  </a:moveTo>
                  <a:lnTo>
                    <a:pt x="90" y="1769"/>
                  </a:lnTo>
                  <a:lnTo>
                    <a:pt x="136" y="2132"/>
                  </a:lnTo>
                  <a:lnTo>
                    <a:pt x="181" y="2041"/>
                  </a:lnTo>
                  <a:lnTo>
                    <a:pt x="181" y="2222"/>
                  </a:lnTo>
                  <a:lnTo>
                    <a:pt x="226" y="1950"/>
                  </a:lnTo>
                  <a:lnTo>
                    <a:pt x="317" y="2404"/>
                  </a:lnTo>
                  <a:lnTo>
                    <a:pt x="317" y="1996"/>
                  </a:lnTo>
                  <a:lnTo>
                    <a:pt x="408" y="2132"/>
                  </a:lnTo>
                  <a:lnTo>
                    <a:pt x="453" y="1905"/>
                  </a:lnTo>
                  <a:lnTo>
                    <a:pt x="499" y="2132"/>
                  </a:lnTo>
                  <a:lnTo>
                    <a:pt x="453" y="1769"/>
                  </a:lnTo>
                  <a:lnTo>
                    <a:pt x="544" y="1996"/>
                  </a:lnTo>
                  <a:lnTo>
                    <a:pt x="544" y="1587"/>
                  </a:lnTo>
                  <a:lnTo>
                    <a:pt x="589" y="1769"/>
                  </a:lnTo>
                  <a:lnTo>
                    <a:pt x="680" y="1224"/>
                  </a:lnTo>
                  <a:lnTo>
                    <a:pt x="680" y="1451"/>
                  </a:lnTo>
                  <a:lnTo>
                    <a:pt x="725" y="1088"/>
                  </a:lnTo>
                  <a:lnTo>
                    <a:pt x="725" y="816"/>
                  </a:lnTo>
                  <a:lnTo>
                    <a:pt x="725" y="952"/>
                  </a:lnTo>
                  <a:lnTo>
                    <a:pt x="816" y="589"/>
                  </a:lnTo>
                  <a:lnTo>
                    <a:pt x="816" y="952"/>
                  </a:lnTo>
                  <a:lnTo>
                    <a:pt x="861" y="1043"/>
                  </a:lnTo>
                  <a:lnTo>
                    <a:pt x="907" y="408"/>
                  </a:lnTo>
                  <a:lnTo>
                    <a:pt x="952" y="635"/>
                  </a:lnTo>
                  <a:lnTo>
                    <a:pt x="998" y="317"/>
                  </a:lnTo>
                  <a:lnTo>
                    <a:pt x="998" y="91"/>
                  </a:lnTo>
                  <a:lnTo>
                    <a:pt x="1043" y="317"/>
                  </a:lnTo>
                  <a:lnTo>
                    <a:pt x="1088" y="91"/>
                  </a:lnTo>
                  <a:lnTo>
                    <a:pt x="1088" y="317"/>
                  </a:lnTo>
                  <a:lnTo>
                    <a:pt x="1134" y="0"/>
                  </a:lnTo>
                  <a:lnTo>
                    <a:pt x="1224" y="453"/>
                  </a:lnTo>
                  <a:lnTo>
                    <a:pt x="1270" y="45"/>
                  </a:lnTo>
                  <a:lnTo>
                    <a:pt x="1360" y="453"/>
                  </a:lnTo>
                  <a:lnTo>
                    <a:pt x="1406" y="181"/>
                  </a:lnTo>
                  <a:lnTo>
                    <a:pt x="1406" y="91"/>
                  </a:lnTo>
                  <a:lnTo>
                    <a:pt x="1496" y="453"/>
                  </a:lnTo>
                  <a:lnTo>
                    <a:pt x="1451" y="680"/>
                  </a:lnTo>
                  <a:lnTo>
                    <a:pt x="1542" y="453"/>
                  </a:lnTo>
                  <a:lnTo>
                    <a:pt x="1587" y="227"/>
                  </a:lnTo>
                  <a:lnTo>
                    <a:pt x="1587" y="635"/>
                  </a:lnTo>
                  <a:lnTo>
                    <a:pt x="1633" y="499"/>
                  </a:lnTo>
                  <a:lnTo>
                    <a:pt x="1678" y="726"/>
                  </a:lnTo>
                  <a:lnTo>
                    <a:pt x="1769" y="453"/>
                  </a:lnTo>
                  <a:lnTo>
                    <a:pt x="1814" y="544"/>
                  </a:lnTo>
                  <a:lnTo>
                    <a:pt x="1814" y="771"/>
                  </a:lnTo>
                  <a:lnTo>
                    <a:pt x="1814" y="907"/>
                  </a:lnTo>
                  <a:lnTo>
                    <a:pt x="1814" y="680"/>
                  </a:lnTo>
                  <a:lnTo>
                    <a:pt x="1859" y="907"/>
                  </a:lnTo>
                  <a:lnTo>
                    <a:pt x="1905" y="726"/>
                  </a:lnTo>
                  <a:lnTo>
                    <a:pt x="1950" y="998"/>
                  </a:lnTo>
                  <a:lnTo>
                    <a:pt x="2041" y="816"/>
                  </a:lnTo>
                  <a:lnTo>
                    <a:pt x="2041" y="952"/>
                  </a:lnTo>
                  <a:lnTo>
                    <a:pt x="2086" y="726"/>
                  </a:lnTo>
                  <a:lnTo>
                    <a:pt x="2086" y="998"/>
                  </a:lnTo>
                  <a:lnTo>
                    <a:pt x="2131" y="907"/>
                  </a:lnTo>
                  <a:lnTo>
                    <a:pt x="2131" y="1224"/>
                  </a:lnTo>
                  <a:lnTo>
                    <a:pt x="2131" y="1406"/>
                  </a:lnTo>
                  <a:lnTo>
                    <a:pt x="2177" y="1179"/>
                  </a:lnTo>
                  <a:lnTo>
                    <a:pt x="2177" y="1315"/>
                  </a:lnTo>
                  <a:lnTo>
                    <a:pt x="2222" y="1088"/>
                  </a:lnTo>
                  <a:lnTo>
                    <a:pt x="2268" y="1270"/>
                  </a:lnTo>
                  <a:lnTo>
                    <a:pt x="2268" y="1451"/>
                  </a:lnTo>
                  <a:lnTo>
                    <a:pt x="2313" y="1406"/>
                  </a:lnTo>
                  <a:lnTo>
                    <a:pt x="2358" y="1361"/>
                  </a:lnTo>
                  <a:lnTo>
                    <a:pt x="2358" y="1678"/>
                  </a:lnTo>
                  <a:lnTo>
                    <a:pt x="2404" y="1542"/>
                  </a:lnTo>
                  <a:lnTo>
                    <a:pt x="2494" y="1860"/>
                  </a:lnTo>
                  <a:lnTo>
                    <a:pt x="2540" y="1678"/>
                  </a:lnTo>
                  <a:lnTo>
                    <a:pt x="2540" y="1814"/>
                  </a:lnTo>
                  <a:lnTo>
                    <a:pt x="2540" y="2041"/>
                  </a:lnTo>
                  <a:lnTo>
                    <a:pt x="2585" y="1905"/>
                  </a:lnTo>
                  <a:lnTo>
                    <a:pt x="2585" y="2177"/>
                  </a:lnTo>
                  <a:lnTo>
                    <a:pt x="2630" y="2132"/>
                  </a:lnTo>
                  <a:lnTo>
                    <a:pt x="2676" y="2313"/>
                  </a:lnTo>
                  <a:lnTo>
                    <a:pt x="2676" y="1996"/>
                  </a:lnTo>
                  <a:lnTo>
                    <a:pt x="2721" y="2268"/>
                  </a:lnTo>
                  <a:lnTo>
                    <a:pt x="2767" y="2041"/>
                  </a:lnTo>
                  <a:lnTo>
                    <a:pt x="2812" y="2086"/>
                  </a:lnTo>
                  <a:lnTo>
                    <a:pt x="2812" y="1950"/>
                  </a:lnTo>
                  <a:lnTo>
                    <a:pt x="2857" y="2132"/>
                  </a:lnTo>
                  <a:lnTo>
                    <a:pt x="2857" y="2404"/>
                  </a:lnTo>
                  <a:lnTo>
                    <a:pt x="2903" y="2177"/>
                  </a:lnTo>
                  <a:lnTo>
                    <a:pt x="2948" y="2041"/>
                  </a:lnTo>
                  <a:lnTo>
                    <a:pt x="2993" y="1769"/>
                  </a:lnTo>
                  <a:lnTo>
                    <a:pt x="3062" y="2039"/>
                  </a:lnTo>
                </a:path>
              </a:pathLst>
            </a:custGeom>
            <a:noFill/>
            <a:ln w="38160">
              <a:solidFill>
                <a:srgbClr val="cc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373360" y="2669040"/>
              <a:ext cx="1792080" cy="3064680"/>
            </a:xfrm>
            <a:custGeom>
              <a:avLst/>
              <a:gdLst/>
              <a:ahLst/>
              <a:rect l="l" t="t" r="r" b="b"/>
              <a:pathLst>
                <a:path w="1451" h="2313">
                  <a:moveTo>
                    <a:pt x="0" y="1905"/>
                  </a:moveTo>
                  <a:lnTo>
                    <a:pt x="0" y="1361"/>
                  </a:lnTo>
                  <a:lnTo>
                    <a:pt x="45" y="1497"/>
                  </a:lnTo>
                  <a:lnTo>
                    <a:pt x="45" y="1134"/>
                  </a:lnTo>
                  <a:lnTo>
                    <a:pt x="90" y="1406"/>
                  </a:lnTo>
                  <a:lnTo>
                    <a:pt x="90" y="952"/>
                  </a:lnTo>
                  <a:lnTo>
                    <a:pt x="90" y="590"/>
                  </a:lnTo>
                  <a:lnTo>
                    <a:pt x="136" y="816"/>
                  </a:lnTo>
                  <a:lnTo>
                    <a:pt x="136" y="544"/>
                  </a:lnTo>
                  <a:lnTo>
                    <a:pt x="136" y="907"/>
                  </a:lnTo>
                  <a:lnTo>
                    <a:pt x="136" y="1043"/>
                  </a:lnTo>
                  <a:lnTo>
                    <a:pt x="181" y="544"/>
                  </a:lnTo>
                  <a:lnTo>
                    <a:pt x="226" y="816"/>
                  </a:lnTo>
                  <a:lnTo>
                    <a:pt x="226" y="453"/>
                  </a:lnTo>
                  <a:lnTo>
                    <a:pt x="272" y="680"/>
                  </a:lnTo>
                  <a:lnTo>
                    <a:pt x="272" y="408"/>
                  </a:lnTo>
                  <a:lnTo>
                    <a:pt x="363" y="680"/>
                  </a:lnTo>
                  <a:lnTo>
                    <a:pt x="363" y="363"/>
                  </a:lnTo>
                  <a:lnTo>
                    <a:pt x="408" y="816"/>
                  </a:lnTo>
                  <a:lnTo>
                    <a:pt x="408" y="1270"/>
                  </a:lnTo>
                  <a:lnTo>
                    <a:pt x="453" y="952"/>
                  </a:lnTo>
                  <a:lnTo>
                    <a:pt x="499" y="1043"/>
                  </a:lnTo>
                  <a:lnTo>
                    <a:pt x="499" y="635"/>
                  </a:lnTo>
                  <a:lnTo>
                    <a:pt x="544" y="862"/>
                  </a:lnTo>
                  <a:lnTo>
                    <a:pt x="544" y="317"/>
                  </a:lnTo>
                  <a:lnTo>
                    <a:pt x="589" y="499"/>
                  </a:lnTo>
                  <a:lnTo>
                    <a:pt x="589" y="0"/>
                  </a:lnTo>
                  <a:lnTo>
                    <a:pt x="680" y="680"/>
                  </a:lnTo>
                  <a:lnTo>
                    <a:pt x="680" y="317"/>
                  </a:lnTo>
                  <a:lnTo>
                    <a:pt x="771" y="726"/>
                  </a:lnTo>
                  <a:lnTo>
                    <a:pt x="816" y="453"/>
                  </a:lnTo>
                  <a:lnTo>
                    <a:pt x="816" y="726"/>
                  </a:lnTo>
                  <a:lnTo>
                    <a:pt x="816" y="816"/>
                  </a:lnTo>
                  <a:lnTo>
                    <a:pt x="862" y="726"/>
                  </a:lnTo>
                  <a:lnTo>
                    <a:pt x="862" y="1088"/>
                  </a:lnTo>
                  <a:lnTo>
                    <a:pt x="862" y="1633"/>
                  </a:lnTo>
                  <a:lnTo>
                    <a:pt x="907" y="1451"/>
                  </a:lnTo>
                  <a:lnTo>
                    <a:pt x="907" y="1996"/>
                  </a:lnTo>
                  <a:lnTo>
                    <a:pt x="998" y="1860"/>
                  </a:lnTo>
                  <a:lnTo>
                    <a:pt x="998" y="1996"/>
                  </a:lnTo>
                  <a:lnTo>
                    <a:pt x="1043" y="1860"/>
                  </a:lnTo>
                  <a:lnTo>
                    <a:pt x="1043" y="2086"/>
                  </a:lnTo>
                  <a:lnTo>
                    <a:pt x="1088" y="2313"/>
                  </a:lnTo>
                  <a:lnTo>
                    <a:pt x="1088" y="1905"/>
                  </a:lnTo>
                  <a:lnTo>
                    <a:pt x="1179" y="2132"/>
                  </a:lnTo>
                  <a:lnTo>
                    <a:pt x="1179" y="1678"/>
                  </a:lnTo>
                  <a:lnTo>
                    <a:pt x="1315" y="1950"/>
                  </a:lnTo>
                  <a:lnTo>
                    <a:pt x="1270" y="1406"/>
                  </a:lnTo>
                  <a:lnTo>
                    <a:pt x="1406" y="1497"/>
                  </a:lnTo>
                  <a:lnTo>
                    <a:pt x="1360" y="1179"/>
                  </a:lnTo>
                  <a:lnTo>
                    <a:pt x="1406" y="1043"/>
                  </a:lnTo>
                  <a:lnTo>
                    <a:pt x="1451" y="1270"/>
                  </a:lnTo>
                </a:path>
              </a:pathLst>
            </a:custGeom>
            <a:noFill/>
            <a:ln w="38160">
              <a:solidFill>
                <a:srgbClr val="cc00cc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8" name=""/>
          <p:cNvSpPr/>
          <p:nvPr/>
        </p:nvSpPr>
        <p:spPr>
          <a:xfrm>
            <a:off x="1655640" y="5656320"/>
            <a:ext cx="565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901800" y="21826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7381800" y="556560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1182600" y="1341360"/>
            <a:ext cx="7926840" cy="4562280"/>
            <a:chOff x="1182600" y="1341360"/>
            <a:chExt cx="7926840" cy="4562280"/>
          </a:xfrm>
        </p:grpSpPr>
        <p:grpSp>
          <p:nvGrpSpPr>
            <p:cNvPr id="151" name=""/>
            <p:cNvGrpSpPr/>
            <p:nvPr/>
          </p:nvGrpSpPr>
          <p:grpSpPr>
            <a:xfrm>
              <a:off x="1182600" y="2022480"/>
              <a:ext cx="7640280" cy="3881160"/>
              <a:chOff x="1182600" y="2022480"/>
              <a:chExt cx="7640280" cy="3881160"/>
            </a:xfrm>
          </p:grpSpPr>
          <p:sp>
            <p:nvSpPr>
              <p:cNvPr id="152" name=""/>
              <p:cNvSpPr/>
              <p:nvPr/>
            </p:nvSpPr>
            <p:spPr>
              <a:xfrm>
                <a:off x="1184400" y="2379600"/>
                <a:ext cx="721512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182600" y="2863800"/>
                <a:ext cx="721512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182600" y="3348000"/>
                <a:ext cx="721512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182600" y="3832200"/>
                <a:ext cx="721512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182600" y="4317840"/>
                <a:ext cx="721512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182600" y="4802040"/>
                <a:ext cx="721512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182600" y="5286240"/>
                <a:ext cx="721512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44160" y="538308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442360" y="487188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444160" y="439740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44160" y="393876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442360" y="346392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Arial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42360" y="306216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Arial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442360" y="253044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Arial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8442360" y="202248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Arial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>
              <a:off x="7957800" y="1341360"/>
              <a:ext cx="115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Leve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684360" y="54936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write measured voltages using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059680" y="602136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600200" y="2457360"/>
            <a:ext cx="6100920" cy="3301920"/>
            <a:chOff x="1600200" y="2457360"/>
            <a:chExt cx="6100920" cy="3301920"/>
          </a:xfrm>
        </p:grpSpPr>
        <p:sp>
          <p:nvSpPr>
            <p:cNvPr id="171" name=""/>
            <p:cNvSpPr/>
            <p:nvPr/>
          </p:nvSpPr>
          <p:spPr>
            <a:xfrm flipV="1">
              <a:off x="1600200" y="3980520"/>
              <a:ext cx="0" cy="177804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2108160" y="2729880"/>
              <a:ext cx="0" cy="302868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2617920" y="2964600"/>
              <a:ext cx="0" cy="279396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3125880" y="4870440"/>
              <a:ext cx="0" cy="88812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3633840" y="2457360"/>
              <a:ext cx="0" cy="330192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4142520" y="2584440"/>
              <a:ext cx="0" cy="317448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4650480" y="3345480"/>
              <a:ext cx="0" cy="241344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5158440" y="5251320"/>
              <a:ext cx="0" cy="50760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5666760" y="5003640"/>
              <a:ext cx="13680" cy="75492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175080" y="3980520"/>
              <a:ext cx="0" cy="177804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6684480" y="2584440"/>
              <a:ext cx="0" cy="317448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7192800" y="3092040"/>
              <a:ext cx="0" cy="266652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7701120" y="5137560"/>
              <a:ext cx="0" cy="62136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1211400" y="1700280"/>
            <a:ext cx="0" cy="4056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211400" y="5756400"/>
            <a:ext cx="7154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16200000">
            <a:off x="-235080" y="2513160"/>
            <a:ext cx="155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371760" y="587376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355400" y="350028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860480" y="256212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387520" y="256212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68480" y="443700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395520" y="205740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876480" y="205740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403520" y="299736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908240" y="494172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460840" y="443700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892480" y="350028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421320" y="205740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972120" y="256212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429320" y="494172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333440" y="5873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842840" y="5873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352600" y="5873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62000" y="5873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1520" y="587376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431040" y="587376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00680" y="587376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451640" y="587376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941880" y="5873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922720" y="5873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413320" y="5873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392360" y="5873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0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0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6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70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700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80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80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900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90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10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1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2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"/>
          <p:cNvSpPr/>
          <p:nvPr/>
        </p:nvSpPr>
        <p:spPr>
          <a:xfrm>
            <a:off x="250920" y="18900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levels controlled by magnitude of no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2" name=""/>
          <p:cNvGrpSpPr/>
          <p:nvPr/>
        </p:nvGrpSpPr>
        <p:grpSpPr>
          <a:xfrm>
            <a:off x="2700360" y="1268280"/>
            <a:ext cx="2631960" cy="1508040"/>
            <a:chOff x="2700360" y="1268280"/>
            <a:chExt cx="2631960" cy="1508040"/>
          </a:xfrm>
        </p:grpSpPr>
        <p:sp>
          <p:nvSpPr>
            <p:cNvPr id="883" name=""/>
            <p:cNvSpPr/>
            <p:nvPr/>
          </p:nvSpPr>
          <p:spPr>
            <a:xfrm>
              <a:off x="2700360" y="1268280"/>
              <a:ext cx="24670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0" lang="en-GB" sz="4400" spc="-1" strike="noStrike" baseline="30000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GB" sz="4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GB" sz="4000" spc="-1" strike="noStrike">
                  <a:solidFill>
                    <a:srgbClr val="ff0000"/>
                  </a:solidFill>
                  <a:latin typeface="Arial"/>
                </a:rPr>
                <a:t>= V</a:t>
              </a:r>
              <a:r>
                <a:rPr b="0" lang="en-GB" sz="4000" spc="-1" strike="noStrike" baseline="-25000">
                  <a:solidFill>
                    <a:srgbClr val="ff0000"/>
                  </a:solidFill>
                  <a:latin typeface="Arial"/>
                </a:rPr>
                <a:t>max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656160" y="1989000"/>
              <a:ext cx="167616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0000"/>
                  </a:solidFill>
                  <a:latin typeface="Arial"/>
                </a:rPr>
                <a:t>V</a:t>
              </a:r>
              <a:r>
                <a:rPr b="0" lang="en-GB" sz="4000" spc="-1" strike="noStrike" baseline="-25000">
                  <a:solidFill>
                    <a:srgbClr val="ff0000"/>
                  </a:solidFill>
                  <a:latin typeface="Arial"/>
                </a:rPr>
                <a:t>nois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656160" y="2060640"/>
              <a:ext cx="1439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6" name=""/>
          <p:cNvSpPr/>
          <p:nvPr/>
        </p:nvSpPr>
        <p:spPr>
          <a:xfrm>
            <a:off x="5363640" y="2567160"/>
            <a:ext cx="354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number of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1883880" y="3284640"/>
            <a:ext cx="515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If V</a:t>
            </a:r>
            <a:r>
              <a:rPr b="0" lang="en-GB" sz="3200" spc="-1" strike="noStrike" baseline="-25000">
                <a:solidFill>
                  <a:srgbClr val="0000ff"/>
                </a:solidFill>
                <a:latin typeface="Arial"/>
              </a:rPr>
              <a:t>noise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 large then 2</a:t>
            </a:r>
            <a:r>
              <a:rPr b="0" lang="en-GB" sz="3200" spc="-1" strike="noStrike" baseline="30000">
                <a:solidFill>
                  <a:srgbClr val="0000ff"/>
                </a:solidFill>
                <a:latin typeface="Times New Roman"/>
              </a:rPr>
              <a:t>I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 is sm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1684440" y="4100400"/>
            <a:ext cx="555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ewer bits required to be 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865160" y="4916520"/>
            <a:ext cx="519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Lower transfer rate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1899360" y="5732640"/>
            <a:ext cx="512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maller bandwidth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4460760" y="3787920"/>
            <a:ext cx="0" cy="43164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4460760" y="4653000"/>
            <a:ext cx="0" cy="43164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4460760" y="5445000"/>
            <a:ext cx="0" cy="432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826920" y="5300640"/>
            <a:ext cx="8066160" cy="0"/>
          </a:xfrm>
          <a:prstGeom prst="line">
            <a:avLst/>
          </a:prstGeom>
          <a:ln cap="rnd" w="1260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82320" y="48315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82320" y="1478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9000" y="5229360"/>
            <a:ext cx="8226000" cy="1600920"/>
            <a:chOff x="459000" y="5229360"/>
            <a:chExt cx="8226000" cy="1600920"/>
          </a:xfrm>
        </p:grpSpPr>
        <p:sp>
          <p:nvSpPr>
            <p:cNvPr id="217" name=""/>
            <p:cNvSpPr/>
            <p:nvPr/>
          </p:nvSpPr>
          <p:spPr>
            <a:xfrm>
              <a:off x="838080" y="5991480"/>
              <a:ext cx="19051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324480" y="5318280"/>
              <a:ext cx="1905120" cy="0"/>
            </a:xfrm>
            <a:prstGeom prst="line">
              <a:avLst/>
            </a:prstGeom>
            <a:ln w="5724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38080" y="5305680"/>
              <a:ext cx="1905120" cy="0"/>
            </a:xfrm>
            <a:prstGeom prst="line">
              <a:avLst/>
            </a:prstGeom>
            <a:ln w="5724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38080" y="5305680"/>
              <a:ext cx="0" cy="106668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229600" y="5229360"/>
              <a:ext cx="0" cy="106704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324480" y="5762880"/>
              <a:ext cx="1905120" cy="0"/>
            </a:xfrm>
            <a:prstGeom prst="line">
              <a:avLst/>
            </a:prstGeom>
            <a:ln w="57240">
              <a:solidFill>
                <a:srgbClr val="00cc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38080" y="5762880"/>
              <a:ext cx="1905120" cy="0"/>
            </a:xfrm>
            <a:prstGeom prst="line">
              <a:avLst/>
            </a:prstGeom>
            <a:ln w="57240">
              <a:solidFill>
                <a:srgbClr val="00cc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59000" y="6309720"/>
              <a:ext cx="243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cc66"/>
                  </a:solidFill>
                  <a:latin typeface="Arial"/>
                </a:rPr>
                <a:t>No signal sen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247080" y="6309720"/>
              <a:ext cx="243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cc66"/>
                  </a:solidFill>
                  <a:latin typeface="Arial"/>
                </a:rPr>
                <a:t>No signal sen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2743200" y="1681200"/>
            <a:ext cx="3581280" cy="3665520"/>
          </a:xfrm>
          <a:custGeom>
            <a:avLst/>
            <a:gdLst/>
            <a:ahLst/>
            <a:rect l="l" t="t" r="r" b="b"/>
            <a:pathLst>
              <a:path w="2256" h="2256">
                <a:moveTo>
                  <a:pt x="0" y="2256"/>
                </a:moveTo>
                <a:lnTo>
                  <a:pt x="0" y="0"/>
                </a:lnTo>
                <a:lnTo>
                  <a:pt x="768" y="0"/>
                </a:lnTo>
                <a:lnTo>
                  <a:pt x="768" y="2208"/>
                </a:lnTo>
                <a:lnTo>
                  <a:pt x="1488" y="2208"/>
                </a:lnTo>
                <a:lnTo>
                  <a:pt x="1488" y="0"/>
                </a:lnTo>
                <a:lnTo>
                  <a:pt x="2256" y="0"/>
                </a:lnTo>
                <a:lnTo>
                  <a:pt x="2256" y="2208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2743200" y="5262480"/>
            <a:ext cx="3581280" cy="1418760"/>
            <a:chOff x="2743200" y="5262480"/>
            <a:chExt cx="3581280" cy="1418760"/>
          </a:xfrm>
        </p:grpSpPr>
        <p:sp>
          <p:nvSpPr>
            <p:cNvPr id="228" name=""/>
            <p:cNvSpPr/>
            <p:nvPr/>
          </p:nvSpPr>
          <p:spPr>
            <a:xfrm>
              <a:off x="2743200" y="5262480"/>
              <a:ext cx="0" cy="106704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324480" y="5262480"/>
              <a:ext cx="0" cy="106704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743200" y="5719680"/>
              <a:ext cx="35812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972880" y="6099840"/>
              <a:ext cx="304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Length of signa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2700360" y="765000"/>
            <a:ext cx="3672000" cy="635040"/>
            <a:chOff x="2700360" y="765000"/>
            <a:chExt cx="3672000" cy="635040"/>
          </a:xfrm>
        </p:grpSpPr>
        <p:sp>
          <p:nvSpPr>
            <p:cNvPr id="233" name=""/>
            <p:cNvSpPr/>
            <p:nvPr/>
          </p:nvSpPr>
          <p:spPr>
            <a:xfrm>
              <a:off x="2700360" y="1400040"/>
              <a:ext cx="122400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924360" y="1400040"/>
              <a:ext cx="115236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076720" y="1400040"/>
              <a:ext cx="129564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845080" y="765000"/>
              <a:ext cx="94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99"/>
                  </a:solidFill>
                  <a:latin typeface="Arial"/>
                </a:rPr>
                <a:t>1 bi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997440" y="765000"/>
              <a:ext cx="94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99"/>
                  </a:solidFill>
                  <a:latin typeface="Arial"/>
                </a:rPr>
                <a:t>1 bi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221440" y="765000"/>
              <a:ext cx="94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99"/>
                  </a:solidFill>
                  <a:latin typeface="Arial"/>
                </a:rPr>
                <a:t>1 bi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826920" y="1701720"/>
            <a:ext cx="8066160" cy="0"/>
          </a:xfrm>
          <a:prstGeom prst="line">
            <a:avLst/>
          </a:prstGeom>
          <a:ln cap="rnd" w="1260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78920" y="189000"/>
            <a:ext cx="74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ical representation of digital sig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53360" y="38016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eci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20040" y="38016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Bin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286000" y="380160"/>
            <a:ext cx="12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858000" y="380160"/>
            <a:ext cx="12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00040" y="13708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242720" y="137088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00040" y="2894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242720" y="289476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00040" y="4418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242720" y="441864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00040" y="59428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242720" y="594288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430160" y="38016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eci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496480" y="38016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Bin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776480" y="13708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519520" y="137088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776480" y="2894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519520" y="289476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776480" y="4418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19520" y="441864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76480" y="59428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519520" y="594288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6858000" y="2362320"/>
            <a:ext cx="1447920" cy="1066680"/>
            <a:chOff x="6858000" y="2362320"/>
            <a:chExt cx="1447920" cy="1066680"/>
          </a:xfrm>
        </p:grpSpPr>
        <p:sp>
          <p:nvSpPr>
            <p:cNvPr id="264" name=""/>
            <p:cNvSpPr/>
            <p:nvPr/>
          </p:nvSpPr>
          <p:spPr>
            <a:xfrm>
              <a:off x="7230960" y="2362320"/>
              <a:ext cx="701640" cy="1066680"/>
            </a:xfrm>
            <a:custGeom>
              <a:avLst/>
              <a:gdLst/>
              <a:ahLst/>
              <a:rect l="l" t="t" r="r" b="b"/>
              <a:pathLst>
                <a:path w="2256" h="2256">
                  <a:moveTo>
                    <a:pt x="0" y="2256"/>
                  </a:moveTo>
                  <a:lnTo>
                    <a:pt x="0" y="0"/>
                  </a:lnTo>
                  <a:lnTo>
                    <a:pt x="768" y="0"/>
                  </a:lnTo>
                  <a:lnTo>
                    <a:pt x="768" y="2208"/>
                  </a:lnTo>
                  <a:lnTo>
                    <a:pt x="1488" y="2208"/>
                  </a:lnTo>
                  <a:lnTo>
                    <a:pt x="1488" y="0"/>
                  </a:lnTo>
                  <a:lnTo>
                    <a:pt x="2256" y="0"/>
                  </a:lnTo>
                  <a:lnTo>
                    <a:pt x="2256" y="2208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932600" y="3406680"/>
              <a:ext cx="373320" cy="0"/>
            </a:xfrm>
            <a:prstGeom prst="line">
              <a:avLst/>
            </a:prstGeom>
            <a:ln w="5724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858000" y="3429000"/>
              <a:ext cx="380880" cy="0"/>
            </a:xfrm>
            <a:prstGeom prst="line">
              <a:avLst/>
            </a:prstGeom>
            <a:ln w="5724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6858000" y="888840"/>
            <a:ext cx="1447920" cy="1067040"/>
            <a:chOff x="6858000" y="888840"/>
            <a:chExt cx="1447920" cy="1067040"/>
          </a:xfrm>
        </p:grpSpPr>
        <p:sp>
          <p:nvSpPr>
            <p:cNvPr id="268" name=""/>
            <p:cNvSpPr/>
            <p:nvPr/>
          </p:nvSpPr>
          <p:spPr>
            <a:xfrm>
              <a:off x="6858000" y="888840"/>
              <a:ext cx="1371600" cy="1067040"/>
            </a:xfrm>
            <a:custGeom>
              <a:avLst/>
              <a:gdLst/>
              <a:ahLst/>
              <a:rect l="l" t="t" r="r" b="b"/>
              <a:pathLst>
                <a:path w="864" h="672">
                  <a:moveTo>
                    <a:pt x="0" y="672"/>
                  </a:moveTo>
                  <a:lnTo>
                    <a:pt x="240" y="672"/>
                  </a:lnTo>
                  <a:lnTo>
                    <a:pt x="240" y="0"/>
                  </a:lnTo>
                  <a:lnTo>
                    <a:pt x="384" y="0"/>
                  </a:lnTo>
                  <a:lnTo>
                    <a:pt x="384" y="672"/>
                  </a:lnTo>
                  <a:lnTo>
                    <a:pt x="864" y="672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932600" y="1955880"/>
              <a:ext cx="373320" cy="0"/>
            </a:xfrm>
            <a:prstGeom prst="line">
              <a:avLst/>
            </a:prstGeom>
            <a:ln w="5724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858000" y="1955880"/>
              <a:ext cx="380880" cy="0"/>
            </a:xfrm>
            <a:prstGeom prst="line">
              <a:avLst/>
            </a:prstGeom>
            <a:ln w="5724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6781680" y="3902040"/>
            <a:ext cx="1447920" cy="1066680"/>
            <a:chOff x="6781680" y="3902040"/>
            <a:chExt cx="1447920" cy="1066680"/>
          </a:xfrm>
        </p:grpSpPr>
        <p:sp>
          <p:nvSpPr>
            <p:cNvPr id="272" name=""/>
            <p:cNvSpPr/>
            <p:nvPr/>
          </p:nvSpPr>
          <p:spPr>
            <a:xfrm>
              <a:off x="6781680" y="3902040"/>
              <a:ext cx="1447920" cy="1066680"/>
            </a:xfrm>
            <a:custGeom>
              <a:avLst/>
              <a:gdLst/>
              <a:ahLst/>
              <a:rect l="l" t="t" r="r" b="b"/>
              <a:pathLst>
                <a:path w="912" h="672">
                  <a:moveTo>
                    <a:pt x="0" y="672"/>
                  </a:moveTo>
                  <a:lnTo>
                    <a:pt x="240" y="672"/>
                  </a:lnTo>
                  <a:lnTo>
                    <a:pt x="240" y="0"/>
                  </a:lnTo>
                  <a:lnTo>
                    <a:pt x="528" y="0"/>
                  </a:lnTo>
                  <a:lnTo>
                    <a:pt x="528" y="672"/>
                  </a:lnTo>
                  <a:lnTo>
                    <a:pt x="912" y="672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856640" y="4968720"/>
              <a:ext cx="372960" cy="0"/>
            </a:xfrm>
            <a:prstGeom prst="line">
              <a:avLst/>
            </a:prstGeom>
            <a:ln w="5724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781680" y="4968720"/>
              <a:ext cx="381240" cy="0"/>
            </a:xfrm>
            <a:prstGeom prst="line">
              <a:avLst/>
            </a:prstGeom>
            <a:ln w="5724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6781680" y="5410080"/>
            <a:ext cx="1447920" cy="1067040"/>
            <a:chOff x="6781680" y="5410080"/>
            <a:chExt cx="1447920" cy="1067040"/>
          </a:xfrm>
        </p:grpSpPr>
        <p:sp>
          <p:nvSpPr>
            <p:cNvPr id="276" name=""/>
            <p:cNvSpPr/>
            <p:nvPr/>
          </p:nvSpPr>
          <p:spPr>
            <a:xfrm>
              <a:off x="6781680" y="5410080"/>
              <a:ext cx="1447920" cy="1067040"/>
            </a:xfrm>
            <a:custGeom>
              <a:avLst/>
              <a:gdLst/>
              <a:ahLst/>
              <a:rect l="l" t="t" r="r" b="b"/>
              <a:pathLst>
                <a:path w="912" h="672">
                  <a:moveTo>
                    <a:pt x="0" y="672"/>
                  </a:moveTo>
                  <a:lnTo>
                    <a:pt x="240" y="672"/>
                  </a:lnTo>
                  <a:lnTo>
                    <a:pt x="240" y="0"/>
                  </a:lnTo>
                  <a:lnTo>
                    <a:pt x="384" y="0"/>
                  </a:lnTo>
                  <a:lnTo>
                    <a:pt x="672" y="0"/>
                  </a:lnTo>
                  <a:lnTo>
                    <a:pt x="672" y="672"/>
                  </a:lnTo>
                  <a:lnTo>
                    <a:pt x="912" y="672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856640" y="6477120"/>
              <a:ext cx="372960" cy="0"/>
            </a:xfrm>
            <a:prstGeom prst="line">
              <a:avLst/>
            </a:prstGeom>
            <a:ln w="5724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781680" y="6477120"/>
              <a:ext cx="381240" cy="0"/>
            </a:xfrm>
            <a:prstGeom prst="line">
              <a:avLst/>
            </a:prstGeom>
            <a:ln w="5724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2286000" y="2371680"/>
            <a:ext cx="1447920" cy="1066680"/>
            <a:chOff x="2286000" y="2371680"/>
            <a:chExt cx="1447920" cy="1066680"/>
          </a:xfrm>
        </p:grpSpPr>
        <p:sp>
          <p:nvSpPr>
            <p:cNvPr id="280" name=""/>
            <p:cNvSpPr/>
            <p:nvPr/>
          </p:nvSpPr>
          <p:spPr>
            <a:xfrm>
              <a:off x="2286000" y="2371680"/>
              <a:ext cx="1371600" cy="1066680"/>
            </a:xfrm>
            <a:custGeom>
              <a:avLst/>
              <a:gdLst/>
              <a:ahLst/>
              <a:rect l="l" t="t" r="r" b="b"/>
              <a:pathLst>
                <a:path w="864" h="672">
                  <a:moveTo>
                    <a:pt x="0" y="672"/>
                  </a:moveTo>
                  <a:lnTo>
                    <a:pt x="528" y="672"/>
                  </a:lnTo>
                  <a:lnTo>
                    <a:pt x="528" y="0"/>
                  </a:lnTo>
                  <a:lnTo>
                    <a:pt x="672" y="0"/>
                  </a:lnTo>
                  <a:lnTo>
                    <a:pt x="672" y="672"/>
                  </a:lnTo>
                  <a:lnTo>
                    <a:pt x="864" y="672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360600" y="3438360"/>
              <a:ext cx="373320" cy="0"/>
            </a:xfrm>
            <a:prstGeom prst="line">
              <a:avLst/>
            </a:prstGeom>
            <a:ln w="5724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286000" y="3438360"/>
              <a:ext cx="380880" cy="0"/>
            </a:xfrm>
            <a:prstGeom prst="line">
              <a:avLst/>
            </a:prstGeom>
            <a:ln w="5724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2286000" y="3903840"/>
            <a:ext cx="1447920" cy="1066680"/>
            <a:chOff x="2286000" y="3903840"/>
            <a:chExt cx="1447920" cy="1066680"/>
          </a:xfrm>
        </p:grpSpPr>
        <p:sp>
          <p:nvSpPr>
            <p:cNvPr id="284" name=""/>
            <p:cNvSpPr/>
            <p:nvPr/>
          </p:nvSpPr>
          <p:spPr>
            <a:xfrm>
              <a:off x="2286000" y="3903840"/>
              <a:ext cx="1447920" cy="1066680"/>
            </a:xfrm>
            <a:custGeom>
              <a:avLst/>
              <a:gdLst/>
              <a:ahLst/>
              <a:rect l="l" t="t" r="r" b="b"/>
              <a:pathLst>
                <a:path w="912" h="672">
                  <a:moveTo>
                    <a:pt x="0" y="672"/>
                  </a:moveTo>
                  <a:lnTo>
                    <a:pt x="384" y="672"/>
                  </a:lnTo>
                  <a:lnTo>
                    <a:pt x="384" y="0"/>
                  </a:lnTo>
                  <a:lnTo>
                    <a:pt x="528" y="0"/>
                  </a:lnTo>
                  <a:lnTo>
                    <a:pt x="528" y="672"/>
                  </a:lnTo>
                  <a:lnTo>
                    <a:pt x="912" y="672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360600" y="4970520"/>
              <a:ext cx="373320" cy="0"/>
            </a:xfrm>
            <a:prstGeom prst="line">
              <a:avLst/>
            </a:prstGeom>
            <a:ln w="5724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4970520"/>
              <a:ext cx="380880" cy="0"/>
            </a:xfrm>
            <a:prstGeom prst="line">
              <a:avLst/>
            </a:prstGeom>
            <a:ln w="5724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209680" y="1905120"/>
            <a:ext cx="1447920" cy="1440"/>
            <a:chOff x="2209680" y="1905120"/>
            <a:chExt cx="1447920" cy="1440"/>
          </a:xfrm>
        </p:grpSpPr>
        <p:sp>
          <p:nvSpPr>
            <p:cNvPr id="288" name=""/>
            <p:cNvSpPr/>
            <p:nvPr/>
          </p:nvSpPr>
          <p:spPr>
            <a:xfrm>
              <a:off x="2286000" y="1905120"/>
              <a:ext cx="137160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284640" y="1906560"/>
              <a:ext cx="372960" cy="0"/>
            </a:xfrm>
            <a:prstGeom prst="line">
              <a:avLst/>
            </a:prstGeom>
            <a:ln w="5724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209680" y="1906560"/>
              <a:ext cx="381240" cy="0"/>
            </a:xfrm>
            <a:prstGeom prst="line">
              <a:avLst/>
            </a:prstGeom>
            <a:ln w="5724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2286000" y="5435640"/>
            <a:ext cx="1447920" cy="1066680"/>
            <a:chOff x="2286000" y="5435640"/>
            <a:chExt cx="1447920" cy="1066680"/>
          </a:xfrm>
        </p:grpSpPr>
        <p:sp>
          <p:nvSpPr>
            <p:cNvPr id="292" name=""/>
            <p:cNvSpPr/>
            <p:nvPr/>
          </p:nvSpPr>
          <p:spPr>
            <a:xfrm>
              <a:off x="2286000" y="5435640"/>
              <a:ext cx="1447920" cy="1066680"/>
            </a:xfrm>
            <a:custGeom>
              <a:avLst/>
              <a:gdLst/>
              <a:ahLst/>
              <a:rect l="l" t="t" r="r" b="b"/>
              <a:pathLst>
                <a:path w="912" h="672">
                  <a:moveTo>
                    <a:pt x="0" y="672"/>
                  </a:moveTo>
                  <a:lnTo>
                    <a:pt x="384" y="672"/>
                  </a:lnTo>
                  <a:lnTo>
                    <a:pt x="384" y="0"/>
                  </a:lnTo>
                  <a:lnTo>
                    <a:pt x="672" y="0"/>
                  </a:lnTo>
                  <a:lnTo>
                    <a:pt x="672" y="672"/>
                  </a:lnTo>
                  <a:lnTo>
                    <a:pt x="912" y="672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360600" y="6502320"/>
              <a:ext cx="373320" cy="0"/>
            </a:xfrm>
            <a:prstGeom prst="line">
              <a:avLst/>
            </a:prstGeom>
            <a:ln w="5724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286000" y="6502320"/>
              <a:ext cx="380880" cy="0"/>
            </a:xfrm>
            <a:prstGeom prst="line">
              <a:avLst/>
            </a:prstGeom>
            <a:ln w="5724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305280" y="456480"/>
            <a:ext cx="751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the digitised signal would look like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986200" y="263700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7400" y="2637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006200" y="2637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666800" y="2637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327040" y="2637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645000" y="263700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945480" y="263700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965840" y="263700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265960" y="263700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07160" y="2637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286320" y="2637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627520" y="2637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306680" y="2637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24000" y="1844640"/>
            <a:ext cx="655200" cy="484200"/>
            <a:chOff x="324000" y="1844640"/>
            <a:chExt cx="655200" cy="484200"/>
          </a:xfrm>
        </p:grpSpPr>
        <p:sp>
          <p:nvSpPr>
            <p:cNvPr id="310" name=""/>
            <p:cNvSpPr/>
            <p:nvPr/>
          </p:nvSpPr>
          <p:spPr>
            <a:xfrm>
              <a:off x="324000" y="1844640"/>
              <a:ext cx="621000" cy="484200"/>
            </a:xfrm>
            <a:custGeom>
              <a:avLst/>
              <a:gdLst/>
              <a:ahLst/>
              <a:rect l="l" t="t" r="r" b="b"/>
              <a:pathLst>
                <a:path w="864" h="672">
                  <a:moveTo>
                    <a:pt x="0" y="672"/>
                  </a:moveTo>
                  <a:lnTo>
                    <a:pt x="240" y="672"/>
                  </a:lnTo>
                  <a:lnTo>
                    <a:pt x="240" y="0"/>
                  </a:lnTo>
                  <a:lnTo>
                    <a:pt x="384" y="0"/>
                  </a:lnTo>
                  <a:lnTo>
                    <a:pt x="384" y="672"/>
                  </a:lnTo>
                  <a:lnTo>
                    <a:pt x="864" y="672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0360" y="2328840"/>
              <a:ext cx="168840" cy="0"/>
            </a:xfrm>
            <a:prstGeom prst="line">
              <a:avLst/>
            </a:prstGeom>
            <a:ln w="5724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24000" y="2328840"/>
              <a:ext cx="172440" cy="0"/>
            </a:xfrm>
            <a:prstGeom prst="line">
              <a:avLst/>
            </a:prstGeom>
            <a:ln w="5724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979560" y="1844640"/>
            <a:ext cx="655560" cy="484200"/>
            <a:chOff x="979560" y="1844640"/>
            <a:chExt cx="655560" cy="484200"/>
          </a:xfrm>
        </p:grpSpPr>
        <p:sp>
          <p:nvSpPr>
            <p:cNvPr id="314" name=""/>
            <p:cNvSpPr/>
            <p:nvPr/>
          </p:nvSpPr>
          <p:spPr>
            <a:xfrm>
              <a:off x="979560" y="1844640"/>
              <a:ext cx="655560" cy="484200"/>
            </a:xfrm>
            <a:custGeom>
              <a:avLst/>
              <a:gdLst/>
              <a:ahLst/>
              <a:rect l="l" t="t" r="r" b="b"/>
              <a:pathLst>
                <a:path w="912" h="672">
                  <a:moveTo>
                    <a:pt x="0" y="672"/>
                  </a:moveTo>
                  <a:lnTo>
                    <a:pt x="240" y="672"/>
                  </a:lnTo>
                  <a:lnTo>
                    <a:pt x="240" y="0"/>
                  </a:lnTo>
                  <a:lnTo>
                    <a:pt x="528" y="0"/>
                  </a:lnTo>
                  <a:lnTo>
                    <a:pt x="528" y="672"/>
                  </a:lnTo>
                  <a:lnTo>
                    <a:pt x="912" y="672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466280" y="2328840"/>
              <a:ext cx="168840" cy="0"/>
            </a:xfrm>
            <a:prstGeom prst="line">
              <a:avLst/>
            </a:prstGeom>
            <a:ln w="5724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979560" y="2328840"/>
              <a:ext cx="172440" cy="0"/>
            </a:xfrm>
            <a:prstGeom prst="line">
              <a:avLst/>
            </a:prstGeom>
            <a:ln w="5724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1627200" y="1844640"/>
            <a:ext cx="655560" cy="484200"/>
            <a:chOff x="1627200" y="1844640"/>
            <a:chExt cx="655560" cy="484200"/>
          </a:xfrm>
        </p:grpSpPr>
        <p:sp>
          <p:nvSpPr>
            <p:cNvPr id="318" name=""/>
            <p:cNvSpPr/>
            <p:nvPr/>
          </p:nvSpPr>
          <p:spPr>
            <a:xfrm>
              <a:off x="1627200" y="1844640"/>
              <a:ext cx="655560" cy="484200"/>
            </a:xfrm>
            <a:custGeom>
              <a:avLst/>
              <a:gdLst/>
              <a:ahLst/>
              <a:rect l="l" t="t" r="r" b="b"/>
              <a:pathLst>
                <a:path w="912" h="672">
                  <a:moveTo>
                    <a:pt x="0" y="672"/>
                  </a:moveTo>
                  <a:lnTo>
                    <a:pt x="240" y="672"/>
                  </a:lnTo>
                  <a:lnTo>
                    <a:pt x="240" y="0"/>
                  </a:lnTo>
                  <a:lnTo>
                    <a:pt x="528" y="0"/>
                  </a:lnTo>
                  <a:lnTo>
                    <a:pt x="528" y="672"/>
                  </a:lnTo>
                  <a:lnTo>
                    <a:pt x="912" y="672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113920" y="2328840"/>
              <a:ext cx="168840" cy="0"/>
            </a:xfrm>
            <a:prstGeom prst="line">
              <a:avLst/>
            </a:prstGeom>
            <a:ln w="5724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627200" y="2328840"/>
              <a:ext cx="172440" cy="0"/>
            </a:xfrm>
            <a:prstGeom prst="line">
              <a:avLst/>
            </a:prstGeom>
            <a:ln w="5724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2274840" y="1844640"/>
            <a:ext cx="655560" cy="484200"/>
            <a:chOff x="2274840" y="1844640"/>
            <a:chExt cx="655560" cy="484200"/>
          </a:xfrm>
        </p:grpSpPr>
        <p:sp>
          <p:nvSpPr>
            <p:cNvPr id="322" name=""/>
            <p:cNvSpPr/>
            <p:nvPr/>
          </p:nvSpPr>
          <p:spPr>
            <a:xfrm>
              <a:off x="2274840" y="1844640"/>
              <a:ext cx="655560" cy="484200"/>
            </a:xfrm>
            <a:custGeom>
              <a:avLst/>
              <a:gdLst/>
              <a:ahLst/>
              <a:rect l="l" t="t" r="r" b="b"/>
              <a:pathLst>
                <a:path w="912" h="672">
                  <a:moveTo>
                    <a:pt x="0" y="672"/>
                  </a:moveTo>
                  <a:lnTo>
                    <a:pt x="384" y="672"/>
                  </a:lnTo>
                  <a:lnTo>
                    <a:pt x="384" y="0"/>
                  </a:lnTo>
                  <a:lnTo>
                    <a:pt x="528" y="0"/>
                  </a:lnTo>
                  <a:lnTo>
                    <a:pt x="528" y="672"/>
                  </a:lnTo>
                  <a:lnTo>
                    <a:pt x="912" y="672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761200" y="2328840"/>
              <a:ext cx="168840" cy="0"/>
            </a:xfrm>
            <a:prstGeom prst="line">
              <a:avLst/>
            </a:prstGeom>
            <a:ln w="5724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274840" y="2328840"/>
              <a:ext cx="172440" cy="0"/>
            </a:xfrm>
            <a:prstGeom prst="line">
              <a:avLst/>
            </a:prstGeom>
            <a:ln w="5724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2924280" y="1844640"/>
            <a:ext cx="655560" cy="484200"/>
            <a:chOff x="2924280" y="1844640"/>
            <a:chExt cx="655560" cy="484200"/>
          </a:xfrm>
        </p:grpSpPr>
        <p:sp>
          <p:nvSpPr>
            <p:cNvPr id="326" name=""/>
            <p:cNvSpPr/>
            <p:nvPr/>
          </p:nvSpPr>
          <p:spPr>
            <a:xfrm>
              <a:off x="2924280" y="1844640"/>
              <a:ext cx="655560" cy="484200"/>
            </a:xfrm>
            <a:custGeom>
              <a:avLst/>
              <a:gdLst/>
              <a:ahLst/>
              <a:rect l="l" t="t" r="r" b="b"/>
              <a:pathLst>
                <a:path w="912" h="672">
                  <a:moveTo>
                    <a:pt x="0" y="672"/>
                  </a:moveTo>
                  <a:lnTo>
                    <a:pt x="240" y="672"/>
                  </a:lnTo>
                  <a:lnTo>
                    <a:pt x="240" y="0"/>
                  </a:lnTo>
                  <a:lnTo>
                    <a:pt x="384" y="0"/>
                  </a:lnTo>
                  <a:lnTo>
                    <a:pt x="672" y="0"/>
                  </a:lnTo>
                  <a:lnTo>
                    <a:pt x="672" y="672"/>
                  </a:lnTo>
                  <a:lnTo>
                    <a:pt x="912" y="672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411000" y="2328840"/>
              <a:ext cx="168840" cy="0"/>
            </a:xfrm>
            <a:prstGeom prst="line">
              <a:avLst/>
            </a:prstGeom>
            <a:ln w="5724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924280" y="2328840"/>
              <a:ext cx="172440" cy="0"/>
            </a:xfrm>
            <a:prstGeom prst="line">
              <a:avLst/>
            </a:prstGeom>
            <a:ln w="5724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571920" y="1844640"/>
            <a:ext cx="655560" cy="484200"/>
            <a:chOff x="3571920" y="1844640"/>
            <a:chExt cx="655560" cy="484200"/>
          </a:xfrm>
        </p:grpSpPr>
        <p:sp>
          <p:nvSpPr>
            <p:cNvPr id="330" name=""/>
            <p:cNvSpPr/>
            <p:nvPr/>
          </p:nvSpPr>
          <p:spPr>
            <a:xfrm>
              <a:off x="3571920" y="1844640"/>
              <a:ext cx="655560" cy="484200"/>
            </a:xfrm>
            <a:custGeom>
              <a:avLst/>
              <a:gdLst/>
              <a:ahLst/>
              <a:rect l="l" t="t" r="r" b="b"/>
              <a:pathLst>
                <a:path w="912" h="672">
                  <a:moveTo>
                    <a:pt x="0" y="672"/>
                  </a:moveTo>
                  <a:lnTo>
                    <a:pt x="240" y="672"/>
                  </a:lnTo>
                  <a:lnTo>
                    <a:pt x="240" y="0"/>
                  </a:lnTo>
                  <a:lnTo>
                    <a:pt x="384" y="0"/>
                  </a:lnTo>
                  <a:lnTo>
                    <a:pt x="672" y="0"/>
                  </a:lnTo>
                  <a:lnTo>
                    <a:pt x="672" y="672"/>
                  </a:lnTo>
                  <a:lnTo>
                    <a:pt x="912" y="672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058640" y="2328840"/>
              <a:ext cx="168840" cy="0"/>
            </a:xfrm>
            <a:prstGeom prst="line">
              <a:avLst/>
            </a:prstGeom>
            <a:ln w="5724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571920" y="2328840"/>
              <a:ext cx="172440" cy="0"/>
            </a:xfrm>
            <a:prstGeom prst="line">
              <a:avLst/>
            </a:prstGeom>
            <a:ln w="5724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4219560" y="1844640"/>
            <a:ext cx="655560" cy="484200"/>
            <a:chOff x="4219560" y="1844640"/>
            <a:chExt cx="655560" cy="484200"/>
          </a:xfrm>
        </p:grpSpPr>
        <p:sp>
          <p:nvSpPr>
            <p:cNvPr id="334" name=""/>
            <p:cNvSpPr/>
            <p:nvPr/>
          </p:nvSpPr>
          <p:spPr>
            <a:xfrm>
              <a:off x="4219560" y="1844640"/>
              <a:ext cx="655560" cy="484200"/>
            </a:xfrm>
            <a:custGeom>
              <a:avLst/>
              <a:gdLst/>
              <a:ahLst/>
              <a:rect l="l" t="t" r="r" b="b"/>
              <a:pathLst>
                <a:path w="912" h="672">
                  <a:moveTo>
                    <a:pt x="0" y="672"/>
                  </a:moveTo>
                  <a:lnTo>
                    <a:pt x="240" y="672"/>
                  </a:lnTo>
                  <a:lnTo>
                    <a:pt x="240" y="0"/>
                  </a:lnTo>
                  <a:lnTo>
                    <a:pt x="528" y="0"/>
                  </a:lnTo>
                  <a:lnTo>
                    <a:pt x="528" y="672"/>
                  </a:lnTo>
                  <a:lnTo>
                    <a:pt x="912" y="672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706280" y="2328840"/>
              <a:ext cx="168840" cy="0"/>
            </a:xfrm>
            <a:prstGeom prst="line">
              <a:avLst/>
            </a:prstGeom>
            <a:ln w="5724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19560" y="2328840"/>
              <a:ext cx="172440" cy="0"/>
            </a:xfrm>
            <a:prstGeom prst="line">
              <a:avLst/>
            </a:prstGeom>
            <a:ln w="5724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4867200" y="1847880"/>
            <a:ext cx="649440" cy="477720"/>
            <a:chOff x="4867200" y="1847880"/>
            <a:chExt cx="649440" cy="477720"/>
          </a:xfrm>
        </p:grpSpPr>
        <p:sp>
          <p:nvSpPr>
            <p:cNvPr id="338" name=""/>
            <p:cNvSpPr/>
            <p:nvPr/>
          </p:nvSpPr>
          <p:spPr>
            <a:xfrm>
              <a:off x="4867200" y="1847880"/>
              <a:ext cx="615240" cy="477720"/>
            </a:xfrm>
            <a:custGeom>
              <a:avLst/>
              <a:gdLst/>
              <a:ahLst/>
              <a:rect l="l" t="t" r="r" b="b"/>
              <a:pathLst>
                <a:path w="864" h="672">
                  <a:moveTo>
                    <a:pt x="0" y="672"/>
                  </a:moveTo>
                  <a:lnTo>
                    <a:pt x="528" y="672"/>
                  </a:lnTo>
                  <a:lnTo>
                    <a:pt x="528" y="0"/>
                  </a:lnTo>
                  <a:lnTo>
                    <a:pt x="672" y="0"/>
                  </a:lnTo>
                  <a:lnTo>
                    <a:pt x="672" y="672"/>
                  </a:lnTo>
                  <a:lnTo>
                    <a:pt x="864" y="672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49240" y="2325600"/>
              <a:ext cx="167400" cy="0"/>
            </a:xfrm>
            <a:prstGeom prst="line">
              <a:avLst/>
            </a:prstGeom>
            <a:ln w="5724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867200" y="2325600"/>
              <a:ext cx="170640" cy="0"/>
            </a:xfrm>
            <a:prstGeom prst="line">
              <a:avLst/>
            </a:prstGeom>
            <a:ln w="5724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5514840" y="1844640"/>
            <a:ext cx="655920" cy="484200"/>
            <a:chOff x="5514840" y="1844640"/>
            <a:chExt cx="655920" cy="484200"/>
          </a:xfrm>
        </p:grpSpPr>
        <p:sp>
          <p:nvSpPr>
            <p:cNvPr id="342" name=""/>
            <p:cNvSpPr/>
            <p:nvPr/>
          </p:nvSpPr>
          <p:spPr>
            <a:xfrm>
              <a:off x="5514840" y="1844640"/>
              <a:ext cx="655920" cy="484200"/>
            </a:xfrm>
            <a:custGeom>
              <a:avLst/>
              <a:gdLst/>
              <a:ahLst/>
              <a:rect l="l" t="t" r="r" b="b"/>
              <a:pathLst>
                <a:path w="912" h="672">
                  <a:moveTo>
                    <a:pt x="0" y="672"/>
                  </a:moveTo>
                  <a:lnTo>
                    <a:pt x="384" y="672"/>
                  </a:lnTo>
                  <a:lnTo>
                    <a:pt x="384" y="0"/>
                  </a:lnTo>
                  <a:lnTo>
                    <a:pt x="528" y="0"/>
                  </a:lnTo>
                  <a:lnTo>
                    <a:pt x="528" y="672"/>
                  </a:lnTo>
                  <a:lnTo>
                    <a:pt x="912" y="672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001560" y="2328840"/>
              <a:ext cx="168840" cy="0"/>
            </a:xfrm>
            <a:prstGeom prst="line">
              <a:avLst/>
            </a:prstGeom>
            <a:ln w="5724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514840" y="2328840"/>
              <a:ext cx="172440" cy="0"/>
            </a:xfrm>
            <a:prstGeom prst="line">
              <a:avLst/>
            </a:prstGeom>
            <a:ln w="5724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6164280" y="1844640"/>
            <a:ext cx="655200" cy="484200"/>
            <a:chOff x="6164280" y="1844640"/>
            <a:chExt cx="655200" cy="484200"/>
          </a:xfrm>
        </p:grpSpPr>
        <p:sp>
          <p:nvSpPr>
            <p:cNvPr id="346" name=""/>
            <p:cNvSpPr/>
            <p:nvPr/>
          </p:nvSpPr>
          <p:spPr>
            <a:xfrm>
              <a:off x="6164280" y="1844640"/>
              <a:ext cx="621000" cy="484200"/>
            </a:xfrm>
            <a:custGeom>
              <a:avLst/>
              <a:gdLst/>
              <a:ahLst/>
              <a:rect l="l" t="t" r="r" b="b"/>
              <a:pathLst>
                <a:path w="864" h="672">
                  <a:moveTo>
                    <a:pt x="0" y="672"/>
                  </a:moveTo>
                  <a:lnTo>
                    <a:pt x="240" y="672"/>
                  </a:lnTo>
                  <a:lnTo>
                    <a:pt x="240" y="0"/>
                  </a:lnTo>
                  <a:lnTo>
                    <a:pt x="384" y="0"/>
                  </a:lnTo>
                  <a:lnTo>
                    <a:pt x="384" y="672"/>
                  </a:lnTo>
                  <a:lnTo>
                    <a:pt x="864" y="672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650640" y="2328840"/>
              <a:ext cx="168840" cy="0"/>
            </a:xfrm>
            <a:prstGeom prst="line">
              <a:avLst/>
            </a:prstGeom>
            <a:ln w="5724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164280" y="2328840"/>
              <a:ext cx="172440" cy="0"/>
            </a:xfrm>
            <a:prstGeom prst="line">
              <a:avLst/>
            </a:prstGeom>
            <a:ln w="5724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6811920" y="1844640"/>
            <a:ext cx="655560" cy="484200"/>
            <a:chOff x="6811920" y="1844640"/>
            <a:chExt cx="655560" cy="484200"/>
          </a:xfrm>
        </p:grpSpPr>
        <p:sp>
          <p:nvSpPr>
            <p:cNvPr id="350" name=""/>
            <p:cNvSpPr/>
            <p:nvPr/>
          </p:nvSpPr>
          <p:spPr>
            <a:xfrm>
              <a:off x="6811920" y="1844640"/>
              <a:ext cx="655560" cy="484200"/>
            </a:xfrm>
            <a:custGeom>
              <a:avLst/>
              <a:gdLst/>
              <a:ahLst/>
              <a:rect l="l" t="t" r="r" b="b"/>
              <a:pathLst>
                <a:path w="912" h="672">
                  <a:moveTo>
                    <a:pt x="0" y="672"/>
                  </a:moveTo>
                  <a:lnTo>
                    <a:pt x="240" y="672"/>
                  </a:lnTo>
                  <a:lnTo>
                    <a:pt x="240" y="0"/>
                  </a:lnTo>
                  <a:lnTo>
                    <a:pt x="384" y="0"/>
                  </a:lnTo>
                  <a:lnTo>
                    <a:pt x="672" y="0"/>
                  </a:lnTo>
                  <a:lnTo>
                    <a:pt x="672" y="672"/>
                  </a:lnTo>
                  <a:lnTo>
                    <a:pt x="912" y="672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298640" y="2328840"/>
              <a:ext cx="168840" cy="0"/>
            </a:xfrm>
            <a:prstGeom prst="line">
              <a:avLst/>
            </a:prstGeom>
            <a:ln w="5724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811920" y="2328840"/>
              <a:ext cx="172440" cy="0"/>
            </a:xfrm>
            <a:prstGeom prst="line">
              <a:avLst/>
            </a:prstGeom>
            <a:ln w="5724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7459560" y="1844640"/>
            <a:ext cx="655920" cy="484200"/>
            <a:chOff x="7459560" y="1844640"/>
            <a:chExt cx="655920" cy="484200"/>
          </a:xfrm>
        </p:grpSpPr>
        <p:sp>
          <p:nvSpPr>
            <p:cNvPr id="354" name=""/>
            <p:cNvSpPr/>
            <p:nvPr/>
          </p:nvSpPr>
          <p:spPr>
            <a:xfrm>
              <a:off x="7459560" y="1844640"/>
              <a:ext cx="655920" cy="484200"/>
            </a:xfrm>
            <a:custGeom>
              <a:avLst/>
              <a:gdLst/>
              <a:ahLst/>
              <a:rect l="l" t="t" r="r" b="b"/>
              <a:pathLst>
                <a:path w="912" h="672">
                  <a:moveTo>
                    <a:pt x="0" y="672"/>
                  </a:moveTo>
                  <a:lnTo>
                    <a:pt x="240" y="672"/>
                  </a:lnTo>
                  <a:lnTo>
                    <a:pt x="240" y="0"/>
                  </a:lnTo>
                  <a:lnTo>
                    <a:pt x="528" y="0"/>
                  </a:lnTo>
                  <a:lnTo>
                    <a:pt x="528" y="672"/>
                  </a:lnTo>
                  <a:lnTo>
                    <a:pt x="912" y="672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46640" y="2328840"/>
              <a:ext cx="168840" cy="0"/>
            </a:xfrm>
            <a:prstGeom prst="line">
              <a:avLst/>
            </a:prstGeom>
            <a:ln w="5724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459560" y="2328840"/>
              <a:ext cx="172440" cy="0"/>
            </a:xfrm>
            <a:prstGeom prst="line">
              <a:avLst/>
            </a:prstGeom>
            <a:ln w="5724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8136000" y="1844640"/>
            <a:ext cx="655560" cy="484200"/>
            <a:chOff x="8136000" y="1844640"/>
            <a:chExt cx="655560" cy="484200"/>
          </a:xfrm>
        </p:grpSpPr>
        <p:sp>
          <p:nvSpPr>
            <p:cNvPr id="358" name=""/>
            <p:cNvSpPr/>
            <p:nvPr/>
          </p:nvSpPr>
          <p:spPr>
            <a:xfrm>
              <a:off x="8136000" y="1844640"/>
              <a:ext cx="655560" cy="484200"/>
            </a:xfrm>
            <a:custGeom>
              <a:avLst/>
              <a:gdLst/>
              <a:ahLst/>
              <a:rect l="l" t="t" r="r" b="b"/>
              <a:pathLst>
                <a:path w="912" h="672">
                  <a:moveTo>
                    <a:pt x="0" y="672"/>
                  </a:moveTo>
                  <a:lnTo>
                    <a:pt x="240" y="672"/>
                  </a:lnTo>
                  <a:lnTo>
                    <a:pt x="240" y="0"/>
                  </a:lnTo>
                  <a:lnTo>
                    <a:pt x="528" y="0"/>
                  </a:lnTo>
                  <a:lnTo>
                    <a:pt x="528" y="672"/>
                  </a:lnTo>
                  <a:lnTo>
                    <a:pt x="912" y="672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622720" y="2328840"/>
              <a:ext cx="168840" cy="0"/>
            </a:xfrm>
            <a:prstGeom prst="line">
              <a:avLst/>
            </a:prstGeom>
            <a:ln w="5724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136000" y="2328840"/>
              <a:ext cx="172440" cy="0"/>
            </a:xfrm>
            <a:prstGeom prst="line">
              <a:avLst/>
            </a:prstGeom>
            <a:ln w="5724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250920" y="4149720"/>
            <a:ext cx="85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ignal is then sent via frequency modulated EM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324000" y="333360"/>
            <a:ext cx="8156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gital signal is then returned to an analogue sig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1038240" y="1557360"/>
            <a:ext cx="7926840" cy="4562280"/>
            <a:chOff x="1038240" y="1557360"/>
            <a:chExt cx="7926840" cy="4562280"/>
          </a:xfrm>
        </p:grpSpPr>
        <p:grpSp>
          <p:nvGrpSpPr>
            <p:cNvPr id="364" name=""/>
            <p:cNvGrpSpPr/>
            <p:nvPr/>
          </p:nvGrpSpPr>
          <p:grpSpPr>
            <a:xfrm>
              <a:off x="1038240" y="2238480"/>
              <a:ext cx="7640280" cy="3881160"/>
              <a:chOff x="1038240" y="2238480"/>
              <a:chExt cx="7640280" cy="3881160"/>
            </a:xfrm>
          </p:grpSpPr>
          <p:sp>
            <p:nvSpPr>
              <p:cNvPr id="365" name=""/>
              <p:cNvSpPr/>
              <p:nvPr/>
            </p:nvSpPr>
            <p:spPr>
              <a:xfrm>
                <a:off x="1040040" y="2595600"/>
                <a:ext cx="721512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038240" y="3079800"/>
                <a:ext cx="721512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038240" y="3564000"/>
                <a:ext cx="721512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038240" y="4048200"/>
                <a:ext cx="721512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038240" y="4533840"/>
                <a:ext cx="721512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038240" y="5018040"/>
                <a:ext cx="721512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038240" y="5502240"/>
                <a:ext cx="721512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8299800" y="559908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8298000" y="508788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8299800" y="461340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8299800" y="415476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8298000" y="367992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Arial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8298000" y="327816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Arial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8298000" y="274644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Arial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8298000" y="223848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Arial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0" name=""/>
            <p:cNvSpPr/>
            <p:nvPr/>
          </p:nvSpPr>
          <p:spPr>
            <a:xfrm>
              <a:off x="7813440" y="1557360"/>
              <a:ext cx="115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Leve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7914960" y="623736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066680" y="1916280"/>
            <a:ext cx="0" cy="4055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066680" y="5972040"/>
            <a:ext cx="7155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rot="16200000">
            <a:off x="-379440" y="2729160"/>
            <a:ext cx="155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227400" y="608976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211040" y="371628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716120" y="277812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243160" y="277812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724120" y="465300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251160" y="227340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732120" y="227340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259160" y="321300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763880" y="515772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316480" y="465300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748120" y="371628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276960" y="227340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827760" y="277812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284960" y="515772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188720" y="6089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698480" y="6089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208240" y="6089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717640" y="6089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736800" y="608976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286680" y="608976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756320" y="608976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307280" y="608976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97520" y="6089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778360" y="6089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268600" y="6089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248000" y="6089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476360" y="2241720"/>
            <a:ext cx="6048360" cy="3514680"/>
          </a:xfrm>
          <a:custGeom>
            <a:avLst/>
            <a:gdLst/>
            <a:ahLst/>
            <a:rect l="l" t="t" r="r" b="b"/>
            <a:pathLst>
              <a:path w="3810" h="2214">
                <a:moveTo>
                  <a:pt x="0" y="1156"/>
                </a:moveTo>
                <a:cubicBezTo>
                  <a:pt x="105" y="914"/>
                  <a:pt x="211" y="673"/>
                  <a:pt x="317" y="567"/>
                </a:cubicBezTo>
                <a:cubicBezTo>
                  <a:pt x="423" y="461"/>
                  <a:pt x="537" y="325"/>
                  <a:pt x="635" y="521"/>
                </a:cubicBezTo>
                <a:cubicBezTo>
                  <a:pt x="733" y="717"/>
                  <a:pt x="809" y="1791"/>
                  <a:pt x="907" y="1746"/>
                </a:cubicBezTo>
                <a:cubicBezTo>
                  <a:pt x="1005" y="1701"/>
                  <a:pt x="1111" y="498"/>
                  <a:pt x="1224" y="249"/>
                </a:cubicBezTo>
                <a:cubicBezTo>
                  <a:pt x="1337" y="0"/>
                  <a:pt x="1474" y="151"/>
                  <a:pt x="1587" y="249"/>
                </a:cubicBezTo>
                <a:cubicBezTo>
                  <a:pt x="1700" y="347"/>
                  <a:pt x="1799" y="537"/>
                  <a:pt x="1905" y="839"/>
                </a:cubicBezTo>
                <a:cubicBezTo>
                  <a:pt x="2011" y="1141"/>
                  <a:pt x="2109" y="1912"/>
                  <a:pt x="2222" y="2063"/>
                </a:cubicBezTo>
                <a:cubicBezTo>
                  <a:pt x="2335" y="2214"/>
                  <a:pt x="2479" y="1905"/>
                  <a:pt x="2585" y="1746"/>
                </a:cubicBezTo>
                <a:cubicBezTo>
                  <a:pt x="2691" y="1587"/>
                  <a:pt x="2759" y="1368"/>
                  <a:pt x="2857" y="1111"/>
                </a:cubicBezTo>
                <a:cubicBezTo>
                  <a:pt x="2955" y="854"/>
                  <a:pt x="3069" y="295"/>
                  <a:pt x="3175" y="204"/>
                </a:cubicBezTo>
                <a:cubicBezTo>
                  <a:pt x="3281" y="113"/>
                  <a:pt x="3386" y="257"/>
                  <a:pt x="3492" y="567"/>
                </a:cubicBezTo>
                <a:cubicBezTo>
                  <a:pt x="3598" y="877"/>
                  <a:pt x="3704" y="1470"/>
                  <a:pt x="3810" y="2063"/>
                </a:cubicBezTo>
              </a:path>
            </a:pathLst>
          </a:custGeom>
          <a:noFill/>
          <a:ln w="57240">
            <a:solidFill>
              <a:srgbClr val="00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258920" y="2276640"/>
            <a:ext cx="6626160" cy="3457440"/>
          </a:xfrm>
          <a:custGeom>
            <a:avLst/>
            <a:gdLst/>
            <a:ahLst/>
            <a:rect l="l" t="t" r="r" b="b"/>
            <a:pathLst>
              <a:path w="2544" h="1336">
                <a:moveTo>
                  <a:pt x="0" y="712"/>
                </a:moveTo>
                <a:cubicBezTo>
                  <a:pt x="16" y="784"/>
                  <a:pt x="32" y="856"/>
                  <a:pt x="96" y="760"/>
                </a:cubicBezTo>
                <a:cubicBezTo>
                  <a:pt x="160" y="664"/>
                  <a:pt x="304" y="136"/>
                  <a:pt x="384" y="136"/>
                </a:cubicBezTo>
                <a:cubicBezTo>
                  <a:pt x="464" y="136"/>
                  <a:pt x="520" y="600"/>
                  <a:pt x="576" y="760"/>
                </a:cubicBezTo>
                <a:cubicBezTo>
                  <a:pt x="632" y="920"/>
                  <a:pt x="672" y="1200"/>
                  <a:pt x="720" y="1096"/>
                </a:cubicBezTo>
                <a:cubicBezTo>
                  <a:pt x="768" y="992"/>
                  <a:pt x="824" y="224"/>
                  <a:pt x="864" y="136"/>
                </a:cubicBezTo>
                <a:cubicBezTo>
                  <a:pt x="904" y="48"/>
                  <a:pt x="928" y="560"/>
                  <a:pt x="960" y="568"/>
                </a:cubicBezTo>
                <a:cubicBezTo>
                  <a:pt x="992" y="576"/>
                  <a:pt x="1024" y="120"/>
                  <a:pt x="1056" y="184"/>
                </a:cubicBezTo>
                <a:cubicBezTo>
                  <a:pt x="1088" y="248"/>
                  <a:pt x="1112" y="920"/>
                  <a:pt x="1152" y="952"/>
                </a:cubicBezTo>
                <a:cubicBezTo>
                  <a:pt x="1192" y="984"/>
                  <a:pt x="1248" y="328"/>
                  <a:pt x="1296" y="376"/>
                </a:cubicBezTo>
                <a:cubicBezTo>
                  <a:pt x="1344" y="424"/>
                  <a:pt x="1360" y="1144"/>
                  <a:pt x="1440" y="1240"/>
                </a:cubicBezTo>
                <a:cubicBezTo>
                  <a:pt x="1520" y="1336"/>
                  <a:pt x="1704" y="1104"/>
                  <a:pt x="1776" y="952"/>
                </a:cubicBezTo>
                <a:cubicBezTo>
                  <a:pt x="1848" y="800"/>
                  <a:pt x="1840" y="480"/>
                  <a:pt x="1872" y="328"/>
                </a:cubicBezTo>
                <a:cubicBezTo>
                  <a:pt x="1904" y="176"/>
                  <a:pt x="1928" y="0"/>
                  <a:pt x="1968" y="40"/>
                </a:cubicBezTo>
                <a:cubicBezTo>
                  <a:pt x="2008" y="80"/>
                  <a:pt x="2064" y="512"/>
                  <a:pt x="2112" y="568"/>
                </a:cubicBezTo>
                <a:cubicBezTo>
                  <a:pt x="2160" y="624"/>
                  <a:pt x="2208" y="272"/>
                  <a:pt x="2256" y="376"/>
                </a:cubicBezTo>
                <a:cubicBezTo>
                  <a:pt x="2304" y="480"/>
                  <a:pt x="2352" y="1160"/>
                  <a:pt x="2400" y="1192"/>
                </a:cubicBezTo>
                <a:cubicBezTo>
                  <a:pt x="2448" y="1224"/>
                  <a:pt x="2528" y="696"/>
                  <a:pt x="2544" y="568"/>
                </a:cubicBezTo>
              </a:path>
            </a:pathLst>
          </a:custGeom>
          <a:noFill/>
          <a:ln w="5724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395280" y="620640"/>
            <a:ext cx="772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improve match of reconstructed wave to original: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188360" y="2349360"/>
            <a:ext cx="474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more frequen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87280" y="3141720"/>
            <a:ext cx="6932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number of levels – more bits per s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"/>
          <p:cNvGrpSpPr/>
          <p:nvPr/>
        </p:nvGrpSpPr>
        <p:grpSpPr>
          <a:xfrm>
            <a:off x="893880" y="1587600"/>
            <a:ext cx="7639920" cy="3881160"/>
            <a:chOff x="893880" y="1587600"/>
            <a:chExt cx="7639920" cy="3881160"/>
          </a:xfrm>
        </p:grpSpPr>
        <p:sp>
          <p:nvSpPr>
            <p:cNvPr id="417" name=""/>
            <p:cNvSpPr/>
            <p:nvPr/>
          </p:nvSpPr>
          <p:spPr>
            <a:xfrm>
              <a:off x="895320" y="1944720"/>
              <a:ext cx="7215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93880" y="2428920"/>
              <a:ext cx="7215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93880" y="2913120"/>
              <a:ext cx="7215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93880" y="3397320"/>
              <a:ext cx="7215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93880" y="3882960"/>
              <a:ext cx="7215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93880" y="4367160"/>
              <a:ext cx="7215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93880" y="4851360"/>
              <a:ext cx="7215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8155080" y="49482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153640" y="44370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155080" y="39625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155080" y="35035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153640" y="30290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153640" y="26272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153640" y="20955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153640" y="15876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7668720" y="906480"/>
            <a:ext cx="11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742160" y="558972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1311120" y="2022480"/>
            <a:ext cx="6100920" cy="3301920"/>
            <a:chOff x="1311120" y="2022480"/>
            <a:chExt cx="6100920" cy="3301920"/>
          </a:xfrm>
        </p:grpSpPr>
        <p:sp>
          <p:nvSpPr>
            <p:cNvPr id="435" name=""/>
            <p:cNvSpPr/>
            <p:nvPr/>
          </p:nvSpPr>
          <p:spPr>
            <a:xfrm flipV="1">
              <a:off x="1311120" y="3545640"/>
              <a:ext cx="0" cy="177804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1819080" y="2295000"/>
              <a:ext cx="0" cy="302868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2328840" y="2529720"/>
              <a:ext cx="0" cy="279396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2836800" y="4435560"/>
              <a:ext cx="0" cy="88812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3344760" y="2022480"/>
              <a:ext cx="0" cy="330192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3853440" y="2149560"/>
              <a:ext cx="0" cy="317448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4361400" y="2910600"/>
              <a:ext cx="0" cy="241344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4869360" y="4816440"/>
              <a:ext cx="0" cy="50760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5377680" y="4568760"/>
              <a:ext cx="13680" cy="75492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5886000" y="3545640"/>
              <a:ext cx="0" cy="177804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flipV="1">
              <a:off x="6395400" y="2149560"/>
              <a:ext cx="0" cy="317448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6903720" y="2657160"/>
              <a:ext cx="0" cy="266652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7412040" y="4702680"/>
              <a:ext cx="0" cy="62136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922320" y="1265400"/>
            <a:ext cx="0" cy="4055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922320" y="5321160"/>
            <a:ext cx="7155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rot="16200000">
            <a:off x="-523800" y="2078280"/>
            <a:ext cx="155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912960" y="1677960"/>
            <a:ext cx="7779600" cy="3689280"/>
            <a:chOff x="912960" y="1677960"/>
            <a:chExt cx="7779600" cy="3689280"/>
          </a:xfrm>
        </p:grpSpPr>
        <p:sp>
          <p:nvSpPr>
            <p:cNvPr id="452" name=""/>
            <p:cNvSpPr/>
            <p:nvPr/>
          </p:nvSpPr>
          <p:spPr>
            <a:xfrm>
              <a:off x="912960" y="2597040"/>
              <a:ext cx="7215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912960" y="3051000"/>
              <a:ext cx="7215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912960" y="3505320"/>
              <a:ext cx="7215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912960" y="3960720"/>
              <a:ext cx="7215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912960" y="4414680"/>
              <a:ext cx="7215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912960" y="4869000"/>
              <a:ext cx="7215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912960" y="2370240"/>
              <a:ext cx="7215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912960" y="2824200"/>
              <a:ext cx="7215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912960" y="3278160"/>
              <a:ext cx="7215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912960" y="3733920"/>
              <a:ext cx="7215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912960" y="4187880"/>
              <a:ext cx="7215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912960" y="4641840"/>
              <a:ext cx="7215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912960" y="5095800"/>
              <a:ext cx="7215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912960" y="2143080"/>
              <a:ext cx="7215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912960" y="1916280"/>
              <a:ext cx="7215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228160" y="48466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228160" y="43419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8228160" y="39099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115480" y="215280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115480" y="167796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228160" y="34783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228160" y="30463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115480" y="262584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5" name=""/>
          <p:cNvSpPr/>
          <p:nvPr/>
        </p:nvSpPr>
        <p:spPr>
          <a:xfrm>
            <a:off x="735480" y="179280"/>
            <a:ext cx="26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level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2T20:28:31Z</dcterms:created>
  <dc:creator>Bridges</dc:creator>
  <dc:description/>
  <dc:language>en-US</dc:language>
  <cp:lastModifiedBy>PALMER</cp:lastModifiedBy>
  <dcterms:modified xsi:type="dcterms:W3CDTF">2011-07-11T16:24:08Z</dcterms:modified>
  <cp:revision>2</cp:revision>
  <dc:subject/>
  <dc:title>Chapter 3. Signalling.</dc:title>
</cp:coreProperties>
</file>